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B62E-3079-4974-AAC3-4E57E7901F5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94C-0FF7-4B05-A22B-B1A21C4B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42F-E1D8-4454-B79F-C65D8634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549-0767-4CEF-B9CA-9F99C2C9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D5EE-E19C-4DB7-8280-B1F56DB6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774-B894-4E91-AF5F-1488EE0F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6CB-5AE1-4674-87E4-6B7EF823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55D-F193-4047-806A-87B11F43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26BB-1873-4A2C-90B6-FF86C9B8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EBC-A014-4A71-965A-B50F0C28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463-98F5-4C2B-9F92-E3682CA2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447-4D4C-43B0-8B89-3232DFE4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171-0AD6-4ED4-9527-DD434425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3CA6-130F-49B1-B090-3D22A2357DCE}" type="slidenum">
              <a:rPr b="0" lang="en-US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309600" y="5191200"/>
            <a:ext cx="75610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· ACPK </a:t>
            </a:r>
            <a:r>
              <a:rPr b="0" lang="ko-KR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프로그램 심사는 기본적으로 제출된 서류를 근거로 하고 있습니다</a:t>
            </a:r>
            <a:r>
              <a:rPr b="0" lang="en-US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· ACPK </a:t>
            </a:r>
            <a:r>
              <a:rPr b="0" lang="ko-KR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프로그램 설명서를 자세히 기록하여 주십시오</a:t>
            </a:r>
            <a:r>
              <a:rPr b="0" lang="en-US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.</a:t>
            </a:r>
            <a:r>
              <a:rPr b="0" lang="en-US" sz="20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4960" y="2085840"/>
            <a:ext cx="86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프로그램명</a:t>
            </a:r>
            <a:r>
              <a:rPr b="0" lang="en-US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64960" y="3429000"/>
            <a:ext cx="862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원기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원일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오각형 13"/>
          <p:cNvSpPr/>
          <p:nvPr/>
        </p:nvSpPr>
        <p:spPr>
          <a:xfrm flipH="1">
            <a:off x="3114720" y="409680"/>
            <a:ext cx="6038640" cy="666720"/>
          </a:xfrm>
          <a:custGeom>
            <a:avLst/>
            <a:gdLst>
              <a:gd name="textAreaLeft" fmla="*/ 360 w 6038640"/>
              <a:gd name="textAreaRight" fmla="*/ 6039360 w 603864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08" y="0"/>
                </a:lnTo>
                <a:lnTo>
                  <a:pt x="21600" y="10800"/>
                </a:lnTo>
                <a:lnTo>
                  <a:pt x="204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ACPK </a:t>
            </a:r>
            <a:r>
              <a:rPr b="0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프로그램 설명서 </a:t>
            </a:r>
            <a:r>
              <a:rPr b="0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[</a:t>
            </a:r>
            <a:r>
              <a:rPr b="0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심화</a:t>
            </a:r>
            <a:r>
              <a:rPr b="0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그림 14" descr=""/>
          <p:cNvPicPr/>
          <p:nvPr/>
        </p:nvPicPr>
        <p:blipFill>
          <a:blip r:embed="rId1"/>
          <a:stretch/>
        </p:blipFill>
        <p:spPr>
          <a:xfrm>
            <a:off x="264960" y="-9360"/>
            <a:ext cx="1200240" cy="1083960"/>
          </a:xfrm>
          <a:prstGeom prst="rect">
            <a:avLst/>
          </a:prstGeom>
          <a:ln w="0">
            <a:noFill/>
          </a:ln>
        </p:spPr>
      </p:pic>
      <p:sp>
        <p:nvSpPr>
          <p:cNvPr id="53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9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7-1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개발자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5"/>
          <p:cNvSpPr/>
          <p:nvPr/>
        </p:nvSpPr>
        <p:spPr>
          <a:xfrm>
            <a:off x="438120" y="819000"/>
            <a:ext cx="400068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893880" y="1569960"/>
            <a:ext cx="402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개발자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9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7-2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교육 책임자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직선 연결선 5"/>
          <p:cNvSpPr/>
          <p:nvPr/>
        </p:nvSpPr>
        <p:spPr>
          <a:xfrm>
            <a:off x="438120" y="819000"/>
            <a:ext cx="461016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893880" y="1569960"/>
            <a:ext cx="80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교육 책임자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번호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상태 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(KPC </a:t>
            </a:r>
            <a:r>
              <a:rPr b="1" lang="ko-KR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이상 가능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9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7-3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강사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선 연결선 5"/>
          <p:cNvSpPr/>
          <p:nvPr/>
        </p:nvSpPr>
        <p:spPr>
          <a:xfrm>
            <a:off x="438120" y="819000"/>
            <a:ext cx="37051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893880" y="1569960"/>
            <a:ext cx="745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강사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번호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상태 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(KPC </a:t>
            </a:r>
            <a:r>
              <a:rPr b="1" lang="ko-KR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이상 가능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9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수료생 리스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직선 연결선 5"/>
          <p:cNvSpPr/>
          <p:nvPr/>
        </p:nvSpPr>
        <p:spPr>
          <a:xfrm>
            <a:off x="438120" y="819000"/>
            <a:ext cx="22478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표 9" descr=""/>
          <p:cNvPicPr/>
          <p:nvPr/>
        </p:nvPicPr>
        <p:blipFill>
          <a:blip r:embed="rId1"/>
          <a:stretch/>
        </p:blipFill>
        <p:spPr>
          <a:xfrm>
            <a:off x="615960" y="1311120"/>
            <a:ext cx="7918560" cy="4499280"/>
          </a:xfrm>
          <a:prstGeom prst="rect">
            <a:avLst/>
          </a:prstGeom>
          <a:ln w="0">
            <a:noFill/>
          </a:ln>
        </p:spPr>
      </p:pic>
      <p:sp>
        <p:nvSpPr>
          <p:cNvPr id="129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9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027080" y="895320"/>
            <a:ext cx="446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◆ 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기입 요령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: 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수료생 전원 기입 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/ 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다양한 기수 수료생 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/ 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교육일 명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1" name="바닥글 개체 틀 4" descr=""/>
          <p:cNvPicPr/>
          <p:nvPr/>
        </p:nvPicPr>
        <p:blipFill>
          <a:blip r:embed="rId2"/>
          <a:stretch/>
        </p:blipFill>
        <p:spPr>
          <a:xfrm>
            <a:off x="438120" y="5986440"/>
            <a:ext cx="8388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47680" y="128556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1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특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2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학습 목표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3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운영 프로세스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4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세부 설명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5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시간 운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6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타 운영 사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7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필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- ①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개발자   ② 교육책임자   ③ 강사 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2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수료생 리스트 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이름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,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교육일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,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강사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7760" y="398160"/>
            <a:ext cx="55530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목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1/2 액자 6"/>
          <p:cNvSpPr/>
          <p:nvPr/>
        </p:nvSpPr>
        <p:spPr>
          <a:xfrm>
            <a:off x="247680" y="189000"/>
            <a:ext cx="895320" cy="915840"/>
          </a:xfrm>
          <a:custGeom>
            <a:avLst/>
            <a:gdLst/>
            <a:ahLst/>
            <a:rect l="l" t="t" r="r" b="b"/>
            <a:pathLst>
              <a:path w="895350" h="915987">
                <a:moveTo>
                  <a:pt x="0" y="0"/>
                </a:moveTo>
                <a:lnTo>
                  <a:pt x="895350" y="0"/>
                </a:lnTo>
                <a:lnTo>
                  <a:pt x="713882" y="185651"/>
                </a:lnTo>
                <a:lnTo>
                  <a:pt x="164503" y="185651"/>
                </a:lnTo>
                <a:lnTo>
                  <a:pt x="164503" y="747693"/>
                </a:lnTo>
                <a:lnTo>
                  <a:pt x="0" y="915987"/>
                </a:lnTo>
                <a:lnTo>
                  <a:pt x="0" y="0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9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1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6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7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선 연결선 5"/>
          <p:cNvSpPr/>
          <p:nvPr/>
        </p:nvSpPr>
        <p:spPr>
          <a:xfrm>
            <a:off x="438120" y="819000"/>
            <a:ext cx="22957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9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2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학습목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직사각형 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사각형 6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7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5"/>
          <p:cNvSpPr/>
          <p:nvPr/>
        </p:nvSpPr>
        <p:spPr>
          <a:xfrm>
            <a:off x="438120" y="819000"/>
            <a:ext cx="16286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9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3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운영 프로세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선 연결선 5"/>
          <p:cNvSpPr/>
          <p:nvPr/>
        </p:nvSpPr>
        <p:spPr>
          <a:xfrm>
            <a:off x="438120" y="819000"/>
            <a:ext cx="35132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9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4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세부 설명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심화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-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필수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직선 연결선 8"/>
          <p:cNvSpPr/>
          <p:nvPr/>
        </p:nvSpPr>
        <p:spPr>
          <a:xfrm>
            <a:off x="438120" y="819000"/>
            <a:ext cx="441000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1880" y="1704960"/>
          <a:ext cx="8220240" cy="3336840"/>
        </p:xfrm>
        <a:graphic>
          <a:graphicData uri="http://schemas.openxmlformats.org/drawingml/2006/table">
            <a:tbl>
              <a:tblPr/>
              <a:tblGrid>
                <a:gridCol w="1176480"/>
                <a:gridCol w="1495440"/>
                <a:gridCol w="2952720"/>
                <a:gridCol w="1866960"/>
                <a:gridCol w="728640"/>
              </a:tblGrid>
              <a:tr h="689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역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모듈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주요 교육 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세부진행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코칭 실습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해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페이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847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적극적으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경청하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효과적으로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질문하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86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의식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확대하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sp>
        <p:nvSpPr>
          <p:cNvPr id="80" name="TextBox 6"/>
          <p:cNvSpPr/>
          <p:nvPr/>
        </p:nvSpPr>
        <p:spPr>
          <a:xfrm>
            <a:off x="1521360" y="1217520"/>
            <a:ext cx="54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◆ 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기입 요령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: 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아래 역량은 필수 해당 역량으로 반드시 구체적으로 정확하게 기록하여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9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바닥글 개체 틀 4"/>
          <p:cNvSpPr/>
          <p:nvPr/>
        </p:nvSpPr>
        <p:spPr>
          <a:xfrm>
            <a:off x="438120" y="5986440"/>
            <a:ext cx="8391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활동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역량 개발과 직접 관련 없는 게임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토의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발표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진단 등 이론 교육 이외의 활동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.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실습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역량 개발과 직접 관련 있는 코칭 스킬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프로세스 등의 습득을 위한 코칭 실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847800" y="89532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◆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11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가지 핵심역량은 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2022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년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12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월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31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일까지 적용 가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4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세부 설명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심화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-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선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8"/>
          <p:cNvSpPr/>
          <p:nvPr/>
        </p:nvSpPr>
        <p:spPr>
          <a:xfrm>
            <a:off x="438120" y="819000"/>
            <a:ext cx="441000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1880" y="1665360"/>
          <a:ext cx="8220240" cy="4203720"/>
        </p:xfrm>
        <a:graphic>
          <a:graphicData uri="http://schemas.openxmlformats.org/drawingml/2006/table">
            <a:tbl>
              <a:tblPr/>
              <a:tblGrid>
                <a:gridCol w="1176480"/>
                <a:gridCol w="1495440"/>
                <a:gridCol w="2952720"/>
                <a:gridCol w="1866960"/>
                <a:gridCol w="728640"/>
              </a:tblGrid>
              <a:tr h="689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역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모듈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주요 교육 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세부진행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코칭 실습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해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페이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84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0" lang="ko-KR" sz="1200" spc="-1" strike="noStrike">
                          <a:solidFill>
                            <a:srgbClr val="262626"/>
                          </a:solidFill>
                          <a:latin typeface="나눔고딕 ExtraBold"/>
                          <a:ea typeface="나눔고딕 ExtraBold"/>
                        </a:rPr>
                        <a:t>코치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0" lang="ko-KR" sz="1200" spc="-1" strike="noStrike">
                          <a:solidFill>
                            <a:srgbClr val="262626"/>
                          </a:solidFill>
                          <a:latin typeface="나눔고딕 ExtraBold"/>
                          <a:ea typeface="나눔고딕 ExtraBold"/>
                        </a:rPr>
                        <a:t>존재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0" lang="ko-KR" sz="1200" spc="-1" strike="noStrike">
                          <a:solidFill>
                            <a:srgbClr val="262626"/>
                          </a:solidFill>
                          <a:latin typeface="나눔고딕 ExtraBold"/>
                          <a:ea typeface="나눔고딕 ExtraBold"/>
                        </a:rPr>
                        <a:t>직접적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0" lang="ko-KR" sz="1200" spc="-1" strike="noStrike">
                          <a:solidFill>
                            <a:srgbClr val="262626"/>
                          </a:solidFill>
                          <a:latin typeface="나눔고딕 ExtraBold"/>
                          <a:ea typeface="나눔고딕 ExtraBold"/>
                        </a:rPr>
                        <a:t>대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86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0" lang="ko-KR" sz="1200" spc="-1" strike="noStrike">
                          <a:solidFill>
                            <a:srgbClr val="262626"/>
                          </a:solidFill>
                          <a:latin typeface="나눔고딕 ExtraBold"/>
                          <a:ea typeface="나눔고딕 ExtraBold"/>
                        </a:rPr>
                        <a:t>행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0" lang="ko-KR" sz="1200" spc="-1" strike="noStrike">
                          <a:solidFill>
                            <a:srgbClr val="262626"/>
                          </a:solidFill>
                          <a:latin typeface="나눔고딕 ExtraBold"/>
                          <a:ea typeface="나눔고딕 ExtraBold"/>
                        </a:rPr>
                        <a:t>설계하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86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0" lang="ko-KR" sz="1200" spc="-1" strike="noStrike">
                          <a:solidFill>
                            <a:srgbClr val="262626"/>
                          </a:solidFill>
                          <a:latin typeface="나눔고딕 ExtraBold"/>
                          <a:ea typeface="나눔고딕 ExtraBold"/>
                        </a:rPr>
                        <a:t>계획수립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0" lang="ko-KR" sz="1200" spc="-1" strike="noStrike">
                          <a:solidFill>
                            <a:srgbClr val="262626"/>
                          </a:solidFill>
                          <a:latin typeface="나눔고딕 ExtraBold"/>
                          <a:ea typeface="나눔고딕 ExtraBold"/>
                        </a:rPr>
                        <a:t>목표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  <p:sp>
        <p:nvSpPr>
          <p:cNvPr id="88" name="TextBox 6"/>
          <p:cNvSpPr/>
          <p:nvPr/>
        </p:nvSpPr>
        <p:spPr>
          <a:xfrm>
            <a:off x="1313640" y="1204920"/>
            <a:ext cx="631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◆ 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기입 요령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: 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아래 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4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가지 역량 중 최소 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1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개 이상을 구체적으로 기록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(4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개 외의 역량은 적지 않음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9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바닥글 개체 틀 4"/>
          <p:cNvSpPr/>
          <p:nvPr/>
        </p:nvSpPr>
        <p:spPr>
          <a:xfrm>
            <a:off x="438120" y="5986440"/>
            <a:ext cx="8391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활동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역량 개발과 직접 관련 없는 게임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토의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발표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진단 등 이론 교육 이외의 활동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.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실습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역량 개발과 직접 관련 있는 코칭 스킬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프로세스 등의 습득을 위한 코칭 실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847800" y="89532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◆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11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가지 핵심역량은 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2022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년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12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월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31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일까지 적용 가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5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시간 운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8"/>
          <p:cNvSpPr/>
          <p:nvPr/>
        </p:nvSpPr>
        <p:spPr>
          <a:xfrm>
            <a:off x="438120" y="819000"/>
            <a:ext cx="290520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84280" y="1305000"/>
          <a:ext cx="7975440" cy="4722840"/>
        </p:xfrm>
        <a:graphic>
          <a:graphicData uri="http://schemas.openxmlformats.org/drawingml/2006/table">
            <a:tbl>
              <a:tblPr/>
              <a:tblGrid>
                <a:gridCol w="2314440"/>
                <a:gridCol w="998640"/>
                <a:gridCol w="777960"/>
                <a:gridCol w="576000"/>
                <a:gridCol w="1035360"/>
                <a:gridCol w="679320"/>
                <a:gridCol w="780840"/>
                <a:gridCol w="812880"/>
              </a:tblGrid>
              <a:tr h="3380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교육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코칭 실습 방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코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개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일대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그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30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39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39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39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35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총 시간 합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코칭 실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 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9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바닥글 개체 틀 4"/>
          <p:cNvSpPr/>
          <p:nvPr/>
        </p:nvSpPr>
        <p:spPr>
          <a:xfrm>
            <a:off x="438120" y="5986440"/>
            <a:ext cx="8391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활동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역량 개발과 직접 관련 없는 게임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토의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발표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진단 등 이론 교육 이외의 활동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.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실습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역량 개발과 직접 관련 있는 코칭 스킬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프로세스 등의 습득을 위한 코칭 실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6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타 운영 사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직사각형 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직사각형 6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7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선 연결선 5"/>
          <p:cNvSpPr/>
          <p:nvPr/>
        </p:nvSpPr>
        <p:spPr>
          <a:xfrm>
            <a:off x="438120" y="819000"/>
            <a:ext cx="23144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893880" y="156996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결석에 대한 운영 규칙 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9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893880" y="297504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Follow up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과정 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7:14:56Z</dcterms:created>
  <dc:creator>탱구구</dc:creator>
  <dc:description/>
  <dc:language>en-US</dc:language>
  <cp:lastModifiedBy>인증지원팀</cp:lastModifiedBy>
  <cp:lastPrinted>2016-01-08T05:22:56Z</cp:lastPrinted>
  <dcterms:modified xsi:type="dcterms:W3CDTF">2022-08-17T07:25:23Z</dcterms:modified>
  <cp:revision>140</cp:revision>
  <dc:subject/>
  <dc:title>슬라이드 1</dc:title>
</cp:coreProperties>
</file>