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2897-C730-4359-AB79-E0D1F84B54C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E2C5-D51E-4317-B1B6-1E8B84C1F65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46DE-074B-4448-9FDE-478A0CDA943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1306-2E09-4ACD-9C96-A8A8B91F605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60C4-F1DC-42CB-9AA6-A51475DF58D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22D6-5B20-435F-8841-49A411BC87B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1479-8F95-447F-ACC7-EBDD172EF22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216B-0E67-4942-BBC3-7DB4CD1DC35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A1E0-B085-414A-ACFE-9E19B94A225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827E-8E46-4463-944F-A6821FA4165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D162-3474-4D45-B7C4-082B254C3F8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2AA2-BD91-4389-B157-DB5EC579831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BFEF-B5F7-4C3C-B354-A7096BF1487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9FA4-65A2-43F2-A8B4-13DC4A96E0D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279-9751-4744-B0DC-1A10FC82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64D-CDD9-4CB2-AE82-B73FBB56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848-D73F-46C4-8FEB-E249847E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1B0-08A7-407A-82D2-28486A35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17E-B72C-4B46-A655-A54340C4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7E4-7F50-4113-A996-AAF35D6D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BA3-FC4F-4586-87D7-8A2F2FE6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45F-01FF-4E96-85A1-3316C5CB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205-BBE2-40B2-BBCC-017F33C2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801-AAB9-4D5E-ACF0-AE794F0D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A46-D935-4AF8-88F9-FA4F71CC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B8BD-F7DA-4213-B80F-75194B81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898989"/>
                </a:solidFill>
                <a:latin typeface="굴림"/>
              </a:rPr>
              <a:t>_2_3_v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9C61-B45F-48F6-9284-EC37C545A7FC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309600" y="5191200"/>
            <a:ext cx="75610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· ACPK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 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프로그램 인증 심사는 기본적으로 제출된 서류를 근거로 하고 있습니다</a:t>
            </a: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· ACPK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 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프로그램 설명서를 자세히 기록하여 주십시오</a:t>
            </a: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.</a:t>
            </a:r>
            <a:r>
              <a:rPr b="0" lang="en-US" sz="2000" spc="-1" strike="noStrike">
                <a:solidFill>
                  <a:srgbClr val="595959"/>
                </a:solidFill>
                <a:latin typeface="나눔고딕"/>
                <a:ea typeface="나눔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4960" y="2085840"/>
            <a:ext cx="86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프로그램명</a:t>
            </a:r>
            <a:r>
              <a:rPr b="0" lang="en-US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64960" y="3429000"/>
            <a:ext cx="862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기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일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오각형 13"/>
          <p:cNvSpPr/>
          <p:nvPr/>
        </p:nvSpPr>
        <p:spPr>
          <a:xfrm flipH="1">
            <a:off x="3114720" y="409680"/>
            <a:ext cx="6038640" cy="666720"/>
          </a:xfrm>
          <a:custGeom>
            <a:avLst/>
            <a:gdLst>
              <a:gd name="textAreaLeft" fmla="*/ 360 w 6038640"/>
              <a:gd name="textAreaRight" fmla="*/ 6039360 w 60386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8" y="0"/>
                </a:lnTo>
                <a:lnTo>
                  <a:pt x="21600" y="10800"/>
                </a:lnTo>
                <a:lnTo>
                  <a:pt x="204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ACPK</a:t>
            </a:r>
            <a:r>
              <a:rPr b="1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프로그램 설명서 </a:t>
            </a:r>
            <a:r>
              <a:rPr b="1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기초</a:t>
            </a:r>
            <a:r>
              <a:rPr b="1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그림 14" descr=""/>
          <p:cNvPicPr/>
          <p:nvPr/>
        </p:nvPicPr>
        <p:blipFill>
          <a:blip r:embed="rId1"/>
          <a:stretch/>
        </p:blipFill>
        <p:spPr>
          <a:xfrm>
            <a:off x="264960" y="-9360"/>
            <a:ext cx="1200240" cy="1083960"/>
          </a:xfrm>
          <a:prstGeom prst="rect">
            <a:avLst/>
          </a:prstGeom>
          <a:ln w="0">
            <a:noFill/>
          </a:ln>
        </p:spPr>
      </p:pic>
      <p:sp>
        <p:nvSpPr>
          <p:cNvPr id="53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개발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직선 연결선 5"/>
          <p:cNvSpPr/>
          <p:nvPr/>
        </p:nvSpPr>
        <p:spPr>
          <a:xfrm>
            <a:off x="438120" y="819000"/>
            <a:ext cx="40006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31960" y="1569960"/>
            <a:ext cx="424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개발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 책임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KPC 1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인 이상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직선 연결선 5"/>
          <p:cNvSpPr/>
          <p:nvPr/>
        </p:nvSpPr>
        <p:spPr>
          <a:xfrm>
            <a:off x="438120" y="819000"/>
            <a:ext cx="65977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773280" y="1569960"/>
            <a:ext cx="80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교육 책임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강사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KPC 2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인 이상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선 연결선 5"/>
          <p:cNvSpPr/>
          <p:nvPr/>
        </p:nvSpPr>
        <p:spPr>
          <a:xfrm>
            <a:off x="438120" y="819000"/>
            <a:ext cx="558180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773280" y="1569960"/>
            <a:ext cx="74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강사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9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리스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" name="표 9" descr=""/>
          <p:cNvPicPr/>
          <p:nvPr/>
        </p:nvPicPr>
        <p:blipFill>
          <a:blip r:embed="rId1"/>
          <a:stretch/>
        </p:blipFill>
        <p:spPr>
          <a:xfrm>
            <a:off x="615960" y="1311120"/>
            <a:ext cx="7918560" cy="4523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165320" y="895320"/>
            <a:ext cx="44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◆ 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입 요령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: 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전원 기입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/ 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다양한 기수 수료생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/ 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일 명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바닥글 개체 틀 4" descr=""/>
          <p:cNvPicPr/>
          <p:nvPr/>
        </p:nvPicPr>
        <p:blipFill>
          <a:blip r:embed="rId2"/>
          <a:stretch/>
        </p:blipFill>
        <p:spPr>
          <a:xfrm>
            <a:off x="438120" y="5986440"/>
            <a:ext cx="8388360" cy="474840"/>
          </a:xfrm>
          <a:prstGeom prst="rect">
            <a:avLst/>
          </a:prstGeom>
          <a:ln w="0">
            <a:noFill/>
          </a:ln>
        </p:spPr>
      </p:pic>
      <p:sp>
        <p:nvSpPr>
          <p:cNvPr id="126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직선 연결선 10"/>
          <p:cNvSpPr/>
          <p:nvPr/>
        </p:nvSpPr>
        <p:spPr>
          <a:xfrm>
            <a:off x="438120" y="819000"/>
            <a:ext cx="231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/2 액자 6"/>
          <p:cNvSpPr/>
          <p:nvPr/>
        </p:nvSpPr>
        <p:spPr>
          <a:xfrm>
            <a:off x="227160" y="158760"/>
            <a:ext cx="895320" cy="915840"/>
          </a:xfrm>
          <a:custGeom>
            <a:avLst/>
            <a:gdLst/>
            <a:ahLst/>
            <a:rect l="l" t="t" r="r" b="b"/>
            <a:pathLst>
              <a:path w="895350" h="915988">
                <a:moveTo>
                  <a:pt x="0" y="0"/>
                </a:moveTo>
                <a:lnTo>
                  <a:pt x="895350" y="0"/>
                </a:lnTo>
                <a:lnTo>
                  <a:pt x="713882" y="185651"/>
                </a:lnTo>
                <a:lnTo>
                  <a:pt x="164503" y="185651"/>
                </a:lnTo>
                <a:lnTo>
                  <a:pt x="164503" y="747694"/>
                </a:lnTo>
                <a:lnTo>
                  <a:pt x="0" y="9159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7680" y="12855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1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특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2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학습 목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3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운영 프로세스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4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세부 설명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5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시간 운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6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핵심역량의 적합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7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기타 운영 사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8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필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- ①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개발자   ② 교육책임자   ③ 강사 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2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9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수료생 리스트 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(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이름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교육일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강사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7760" y="398160"/>
            <a:ext cx="55530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목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선 연결선 5"/>
          <p:cNvSpPr/>
          <p:nvPr/>
        </p:nvSpPr>
        <p:spPr>
          <a:xfrm>
            <a:off x="438120" y="819000"/>
            <a:ext cx="22957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학습목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5"/>
          <p:cNvSpPr/>
          <p:nvPr/>
        </p:nvSpPr>
        <p:spPr>
          <a:xfrm>
            <a:off x="438120" y="819000"/>
            <a:ext cx="16286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프로세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선 연결선 5"/>
          <p:cNvSpPr/>
          <p:nvPr/>
        </p:nvSpPr>
        <p:spPr>
          <a:xfrm>
            <a:off x="438120" y="819000"/>
            <a:ext cx="35132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4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세부 설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선 연결선 9"/>
          <p:cNvSpPr/>
          <p:nvPr/>
        </p:nvSpPr>
        <p:spPr>
          <a:xfrm>
            <a:off x="438120" y="819000"/>
            <a:ext cx="285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84280" y="1068480"/>
          <a:ext cx="7975440" cy="4270320"/>
        </p:xfrm>
        <a:graphic>
          <a:graphicData uri="http://schemas.openxmlformats.org/drawingml/2006/table">
            <a:tbl>
              <a:tblPr/>
              <a:tblGrid>
                <a:gridCol w="752400"/>
                <a:gridCol w="1317600"/>
                <a:gridCol w="2779560"/>
                <a:gridCol w="2316240"/>
                <a:gridCol w="809640"/>
              </a:tblGrid>
              <a:tr h="774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모듈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목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교육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세부진행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5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시간 운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선 연결선 8"/>
          <p:cNvSpPr/>
          <p:nvPr/>
        </p:nvSpPr>
        <p:spPr>
          <a:xfrm>
            <a:off x="438120" y="819000"/>
            <a:ext cx="285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84280" y="1071720"/>
          <a:ext cx="7975440" cy="4716360"/>
        </p:xfrm>
        <a:graphic>
          <a:graphicData uri="http://schemas.openxmlformats.org/drawingml/2006/table">
            <a:tbl>
              <a:tblPr/>
              <a:tblGrid>
                <a:gridCol w="2314440"/>
                <a:gridCol w="998640"/>
                <a:gridCol w="777960"/>
                <a:gridCol w="576000"/>
                <a:gridCol w="1035360"/>
                <a:gridCol w="679320"/>
                <a:gridCol w="780840"/>
                <a:gridCol w="812880"/>
              </a:tblGrid>
              <a:tr h="3380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교육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구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 방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개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일대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그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3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총 시간 합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 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557280" y="1314360"/>
          <a:ext cx="8029440" cy="4934160"/>
        </p:xfrm>
        <a:graphic>
          <a:graphicData uri="http://schemas.openxmlformats.org/drawingml/2006/table">
            <a:tbl>
              <a:tblPr/>
              <a:tblGrid>
                <a:gridCol w="842760"/>
                <a:gridCol w="628920"/>
                <a:gridCol w="704880"/>
                <a:gridCol w="4844880"/>
                <a:gridCol w="1008000"/>
              </a:tblGrid>
              <a:tr h="55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핵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역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모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적용 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전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89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6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핵심역량의 적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선 연결선 8"/>
          <p:cNvSpPr/>
          <p:nvPr/>
        </p:nvSpPr>
        <p:spPr>
          <a:xfrm>
            <a:off x="438120" y="819000"/>
            <a:ext cx="28036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796320" y="895320"/>
            <a:ext cx="34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◆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가지 핵심역량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: 2022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년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월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일부터 적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 운영 사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5"/>
          <p:cNvSpPr/>
          <p:nvPr/>
        </p:nvSpPr>
        <p:spPr>
          <a:xfrm>
            <a:off x="438120" y="819000"/>
            <a:ext cx="231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893880" y="156996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결석에 대한 운영 규칙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893880" y="297504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Follow up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과정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탱구구</dc:creator>
  <dc:description/>
  <dc:language>en-US</dc:language>
  <cp:lastModifiedBy>인증지원팀</cp:lastModifiedBy>
  <cp:lastPrinted>2016-01-08T05:22:56Z</cp:lastPrinted>
  <dcterms:modified xsi:type="dcterms:W3CDTF">2022-08-17T06:53:41Z</dcterms:modified>
  <cp:revision>158</cp:revision>
  <dc:subject/>
  <dc:title>슬라이드 1</dc:title>
</cp:coreProperties>
</file>