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4C8F-3698-4D5F-9074-D984C156F8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217A-CD28-4ED5-ACE4-719B73BDB6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5002-93ED-4AE1-A6AB-1848D8D6D6D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CED6-9C50-482A-B7DC-8DAEB3E8F3A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63D6-59BA-46ED-B8D1-21ED8B1F1C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0D7-EBD0-4D27-9418-551C7EE3F87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D57C-DD97-43E6-A6E1-AE294B1D14D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D35-9656-46A2-A669-0F3E4F29B6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92F-3950-4100-A677-EE8CA34BE9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866-A6E5-4C0A-A31D-7A19808312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AE9-14F2-4656-91C8-16A7CEB8BA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942-2AD7-4DE0-A0F0-529D3D2FD0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CFA8-01B4-4CB3-B621-7B99C4E5C3B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슬라이드 번호 개체 틀 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F4B-F540-4C41-9474-9FBFB324A9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머리글 개체 틀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_2_3_v1_200605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FCA-91BF-4FEC-9926-90A74DFD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C89-8C4D-4F78-BE5C-713CC7A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C41-4B6A-4658-BB3F-FD8E020C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205-3439-4E36-A655-0D2894F1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910-D193-48B8-89CF-E331E568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6D9-617B-4F39-A713-B4FA9E3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E3A-C7AB-4FD1-9377-C898462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D4B-60E4-4784-8B35-6C509616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BE0-07B6-46F4-A287-95DAE85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194-455E-4D0B-91FC-4FE58E4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37B-65A2-4ED9-8819-002A1BE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4AE-55A0-4ECD-8BFE-E75A802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인증</a:t>
            </a:r>
            <a:r>
              <a:rPr b="0" lang="en-US" sz="1200" spc="-1" strike="noStrike">
                <a:solidFill>
                  <a:srgbClr val="898989"/>
                </a:solidFill>
                <a:latin typeface="굴림"/>
              </a:rPr>
              <a:t>_2_3_v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7456-2841-4DF1-8F89-DD5D92833E4A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인증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"/>
                <a:ea typeface="나눔고딕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기초</a:t>
            </a:r>
            <a:r>
              <a:rPr b="1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31960" y="1569960"/>
            <a:ext cx="424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5"/>
          <p:cNvSpPr/>
          <p:nvPr/>
        </p:nvSpPr>
        <p:spPr>
          <a:xfrm>
            <a:off x="438120" y="819000"/>
            <a:ext cx="6597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773280" y="1569960"/>
            <a:ext cx="80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KPC 2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 이상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선 연결선 5"/>
          <p:cNvSpPr/>
          <p:nvPr/>
        </p:nvSpPr>
        <p:spPr>
          <a:xfrm>
            <a:off x="438120" y="819000"/>
            <a:ext cx="55818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7732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3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523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65320" y="895320"/>
            <a:ext cx="44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입 요령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전원 기입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다양한 기수 수료생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/ 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  <p:sp>
        <p:nvSpPr>
          <p:cNvPr id="12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직선 연결선 10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/2 액자 6"/>
          <p:cNvSpPr/>
          <p:nvPr/>
        </p:nvSpPr>
        <p:spPr>
          <a:xfrm>
            <a:off x="227160" y="158760"/>
            <a:ext cx="895320" cy="915840"/>
          </a:xfrm>
          <a:custGeom>
            <a:avLst/>
            <a:gdLst/>
            <a:ahLst/>
            <a:rect l="l" t="t" r="r" b="b"/>
            <a:pathLst>
              <a:path w="895350" h="915988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4"/>
                </a:lnTo>
                <a:lnTo>
                  <a:pt x="0" y="9159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6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핵심역량의 적합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"/>
                <a:ea typeface="나눔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직선 연결선 9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84280" y="1068480"/>
          <a:ext cx="7975440" cy="4270320"/>
        </p:xfrm>
        <a:graphic>
          <a:graphicData uri="http://schemas.openxmlformats.org/drawingml/2006/table">
            <a:tbl>
              <a:tblPr/>
              <a:tblGrid>
                <a:gridCol w="752400"/>
                <a:gridCol w="1317600"/>
                <a:gridCol w="2779560"/>
                <a:gridCol w="2316240"/>
                <a:gridCol w="809640"/>
              </a:tblGrid>
              <a:tr h="77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85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4280" y="1071720"/>
          <a:ext cx="7975440" cy="471636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7280" y="1314360"/>
          <a:ext cx="8029440" cy="493416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핵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전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핵심역량의 적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선 연결선 8"/>
          <p:cNvSpPr/>
          <p:nvPr/>
        </p:nvSpPr>
        <p:spPr>
          <a:xfrm>
            <a:off x="438120" y="819000"/>
            <a:ext cx="2803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96320" y="895320"/>
            <a:ext cx="34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◆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: 2022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년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월 </a:t>
            </a:r>
            <a:r>
              <a:rPr b="0" lang="en-US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</a:t>
            </a:r>
            <a:r>
              <a:rPr b="0" lang="ko-KR" sz="16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일부터 적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사각형 6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7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바닥글 개체 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8_v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6:53:41Z</dcterms:modified>
  <cp:revision>158</cp:revision>
  <dc:subject/>
  <dc:title>슬라이드 1</dc:title>
</cp:coreProperties>
</file>