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2144-52AA-4DF7-ACFC-B8C1541A04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797-3BCE-44BF-8C75-A78F0BCD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6B7-60B6-434B-AB81-543BED2A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5F1-C827-4FED-92E6-EF952934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8E5-6DB7-4A14-B244-27BD3CAA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B0C-B03A-4E7B-93E9-B3BBAAF0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D7E-C81C-477A-BDF7-EF9CB655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194-E9A7-4D3F-996C-FABBE6C4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FDE-EC16-4CEC-8A5F-C6647F82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F5C-E838-4A6A-936B-DA4BB796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490-662F-4F5E-8466-39D53F5F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A2A-6D16-46F8-B5EA-EAEEFC3D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74A-6331-48E3-AAEF-C3F4E5AB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E48A-17D4-4AAF-9303-463B49C26162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기관명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출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 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운영 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5"/>
          <p:cNvSpPr/>
          <p:nvPr/>
        </p:nvSpPr>
        <p:spPr>
          <a:xfrm>
            <a:off x="438120" y="819000"/>
            <a:ext cx="3228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27120" y="1319040"/>
          <a:ext cx="7889760" cy="3538800"/>
        </p:xfrm>
        <a:graphic>
          <a:graphicData uri="http://schemas.openxmlformats.org/drawingml/2006/table">
            <a:tbl>
              <a:tblPr/>
              <a:tblGrid>
                <a:gridCol w="1220760"/>
                <a:gridCol w="1562040"/>
                <a:gridCol w="1266840"/>
                <a:gridCol w="1428840"/>
                <a:gridCol w="2411280"/>
              </a:tblGrid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대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의뢰기업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담당자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수료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참가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강사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인증보유 유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85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648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5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5"/>
          <p:cNvSpPr/>
          <p:nvPr/>
        </p:nvSpPr>
        <p:spPr>
          <a:xfrm>
            <a:off x="438120" y="819000"/>
            <a:ext cx="12193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8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85960" y="157176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팔로우업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885960" y="297648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변동사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User</cp:lastModifiedBy>
  <cp:lastPrinted>2016-01-08T05:22:56Z</cp:lastPrinted>
  <dcterms:modified xsi:type="dcterms:W3CDTF">2020-06-04T07:02:31Z</dcterms:modified>
  <cp:revision>129</cp:revision>
  <dc:subject/>
  <dc:title>슬라이드 1</dc:title>
</cp:coreProperties>
</file>