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D0ED-67D2-4A10-9203-CB9F6FCC19E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542-D99E-42AF-BC61-FAFA8535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27F-9A0B-45E9-BBAC-68C46A24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33C-4AD2-4E0D-945B-85DC763F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338-C742-45FD-A715-F447523A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C63-F5FB-4AD1-8320-F022135E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FD2-0568-402F-8F69-9D3CFE80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293-F859-458E-AA79-1DAFB982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BF6-C3A7-46A7-B67C-304A5170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1BB-796F-4CF5-A413-87DD5151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293-C1A3-470F-BD3E-872F592C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B4E-365B-4767-A52B-D2C60E57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73DF-15F4-4927-AB1D-253C4513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898989"/>
                </a:solidFill>
                <a:latin typeface="굴림"/>
              </a:rPr>
              <a:t>_2_8_v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D66B-EF1C-41B6-B927-C969E65AB7B7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309600" y="5191200"/>
            <a:ext cx="75610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· ACPK </a:t>
            </a:r>
            <a:r>
              <a:rPr b="0" lang="ko-KR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프로그램 연장 심사는 기본적으로 제출된 서류를 근거로 하고 있습니다</a:t>
            </a:r>
            <a:r>
              <a:rPr b="0" lang="en-US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· ACPK</a:t>
            </a:r>
            <a:r>
              <a:rPr b="0" lang="ko-KR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프로그램 설명서를 자세히 기록하여 주십시오</a:t>
            </a:r>
            <a:r>
              <a:rPr b="0" lang="en-US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.</a:t>
            </a:r>
            <a:r>
              <a:rPr b="0" lang="en-US" sz="20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4960" y="2085840"/>
            <a:ext cx="86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프로그램명</a:t>
            </a:r>
            <a:r>
              <a:rPr b="0" lang="en-US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64960" y="3429000"/>
            <a:ext cx="862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기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일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오각형 13"/>
          <p:cNvSpPr/>
          <p:nvPr/>
        </p:nvSpPr>
        <p:spPr>
          <a:xfrm flipH="1">
            <a:off x="3114720" y="409680"/>
            <a:ext cx="6038640" cy="666720"/>
          </a:xfrm>
          <a:custGeom>
            <a:avLst/>
            <a:gdLst>
              <a:gd name="textAreaLeft" fmla="*/ 360 w 6038640"/>
              <a:gd name="textAreaRight" fmla="*/ 6039360 w 60386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8" y="0"/>
                </a:lnTo>
                <a:lnTo>
                  <a:pt x="21600" y="10800"/>
                </a:lnTo>
                <a:lnTo>
                  <a:pt x="204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ACPK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프로그램 설명서 </a:t>
            </a: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[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기초</a:t>
            </a: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그림 14" descr=""/>
          <p:cNvPicPr/>
          <p:nvPr/>
        </p:nvPicPr>
        <p:blipFill>
          <a:blip r:embed="rId1"/>
          <a:stretch/>
        </p:blipFill>
        <p:spPr>
          <a:xfrm>
            <a:off x="264960" y="-9360"/>
            <a:ext cx="1200240" cy="1083960"/>
          </a:xfrm>
          <a:prstGeom prst="rect">
            <a:avLst/>
          </a:prstGeom>
          <a:ln w="0">
            <a:noFill/>
          </a:ln>
        </p:spPr>
      </p:pic>
      <p:sp>
        <p:nvSpPr>
          <p:cNvPr id="53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개발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선 연결선 5"/>
          <p:cNvSpPr/>
          <p:nvPr/>
        </p:nvSpPr>
        <p:spPr>
          <a:xfrm>
            <a:off x="438120" y="819000"/>
            <a:ext cx="40006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893880" y="1569960"/>
            <a:ext cx="402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개발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 책임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5"/>
          <p:cNvSpPr/>
          <p:nvPr/>
        </p:nvSpPr>
        <p:spPr>
          <a:xfrm>
            <a:off x="438120" y="819000"/>
            <a:ext cx="461016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893880" y="1569960"/>
            <a:ext cx="80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교육 책임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강사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직선 연결선 5"/>
          <p:cNvSpPr/>
          <p:nvPr/>
        </p:nvSpPr>
        <p:spPr>
          <a:xfrm>
            <a:off x="438120" y="819000"/>
            <a:ext cx="37051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893880" y="1569960"/>
            <a:ext cx="74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강사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9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리스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직선 연결선 5"/>
          <p:cNvSpPr/>
          <p:nvPr/>
        </p:nvSpPr>
        <p:spPr>
          <a:xfrm>
            <a:off x="438120" y="819000"/>
            <a:ext cx="2247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" name="표 9" descr=""/>
          <p:cNvPicPr/>
          <p:nvPr/>
        </p:nvPicPr>
        <p:blipFill>
          <a:blip r:embed="rId1"/>
          <a:stretch/>
        </p:blipFill>
        <p:spPr>
          <a:xfrm>
            <a:off x="615960" y="1311120"/>
            <a:ext cx="7918560" cy="4499280"/>
          </a:xfrm>
          <a:prstGeom prst="rect">
            <a:avLst/>
          </a:prstGeom>
          <a:ln w="0">
            <a:noFill/>
          </a:ln>
        </p:spPr>
      </p:pic>
      <p:sp>
        <p:nvSpPr>
          <p:cNvPr id="124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1027080" y="895320"/>
            <a:ext cx="446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◆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기입 요령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: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수료생 전원 기입 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/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다양한 기수 수료생 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/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교육일 명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6" name="바닥글 개체 틀 4" descr=""/>
          <p:cNvPicPr/>
          <p:nvPr/>
        </p:nvPicPr>
        <p:blipFill>
          <a:blip r:embed="rId2"/>
          <a:stretch/>
        </p:blipFill>
        <p:spPr>
          <a:xfrm>
            <a:off x="438120" y="5986440"/>
            <a:ext cx="8388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47680" y="12855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특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학습 목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3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프로세스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4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세부 설명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5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시간 운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6. 11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가지 핵심역량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 운영 사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필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- ①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개발자   ② 교육책임자   ③ 강사 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9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리스트 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이름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일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강사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7760" y="398160"/>
            <a:ext cx="55530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목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1/2 액자 6"/>
          <p:cNvSpPr/>
          <p:nvPr/>
        </p:nvSpPr>
        <p:spPr>
          <a:xfrm>
            <a:off x="247680" y="189000"/>
            <a:ext cx="895320" cy="915840"/>
          </a:xfrm>
          <a:custGeom>
            <a:avLst/>
            <a:gdLst/>
            <a:ahLst/>
            <a:rect l="l" t="t" r="r" b="b"/>
            <a:pathLst>
              <a:path w="895350" h="915987">
                <a:moveTo>
                  <a:pt x="0" y="0"/>
                </a:moveTo>
                <a:lnTo>
                  <a:pt x="895350" y="0"/>
                </a:lnTo>
                <a:lnTo>
                  <a:pt x="713882" y="185651"/>
                </a:lnTo>
                <a:lnTo>
                  <a:pt x="164503" y="185651"/>
                </a:lnTo>
                <a:lnTo>
                  <a:pt x="164503" y="747693"/>
                </a:lnTo>
                <a:lnTo>
                  <a:pt x="0" y="915987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선 연결선 5"/>
          <p:cNvSpPr/>
          <p:nvPr/>
        </p:nvSpPr>
        <p:spPr>
          <a:xfrm>
            <a:off x="438120" y="819000"/>
            <a:ext cx="22957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학습목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5"/>
          <p:cNvSpPr/>
          <p:nvPr/>
        </p:nvSpPr>
        <p:spPr>
          <a:xfrm>
            <a:off x="438120" y="819000"/>
            <a:ext cx="16286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프로세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선 연결선 5"/>
          <p:cNvSpPr/>
          <p:nvPr/>
        </p:nvSpPr>
        <p:spPr>
          <a:xfrm>
            <a:off x="438120" y="819000"/>
            <a:ext cx="35132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4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세부 설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직선 연결선 8"/>
          <p:cNvSpPr/>
          <p:nvPr/>
        </p:nvSpPr>
        <p:spPr>
          <a:xfrm>
            <a:off x="438120" y="819000"/>
            <a:ext cx="28954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1880" y="1301760"/>
          <a:ext cx="8220240" cy="4184640"/>
        </p:xfrm>
        <a:graphic>
          <a:graphicData uri="http://schemas.openxmlformats.org/drawingml/2006/table">
            <a:tbl>
              <a:tblPr/>
              <a:tblGrid>
                <a:gridCol w="1176480"/>
                <a:gridCol w="1495440"/>
                <a:gridCol w="2952720"/>
                <a:gridCol w="1866960"/>
                <a:gridCol w="728640"/>
              </a:tblGrid>
              <a:tr h="689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모듈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목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교육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세부진행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6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80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.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5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시간 운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선 연결선 8"/>
          <p:cNvSpPr/>
          <p:nvPr/>
        </p:nvSpPr>
        <p:spPr>
          <a:xfrm>
            <a:off x="438120" y="819000"/>
            <a:ext cx="290520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84280" y="1305000"/>
          <a:ext cx="7975440" cy="4722840"/>
        </p:xfrm>
        <a:graphic>
          <a:graphicData uri="http://schemas.openxmlformats.org/drawingml/2006/table">
            <a:tbl>
              <a:tblPr/>
              <a:tblGrid>
                <a:gridCol w="2314440"/>
                <a:gridCol w="998640"/>
                <a:gridCol w="777960"/>
                <a:gridCol w="576000"/>
                <a:gridCol w="1035360"/>
                <a:gridCol w="679320"/>
                <a:gridCol w="780840"/>
                <a:gridCol w="812880"/>
              </a:tblGrid>
              <a:tr h="3380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교육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구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 방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개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일대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그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총 시간 합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 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.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557280" y="1314360"/>
          <a:ext cx="8029440" cy="4942080"/>
        </p:xfrm>
        <a:graphic>
          <a:graphicData uri="http://schemas.openxmlformats.org/drawingml/2006/table">
            <a:tbl>
              <a:tblPr/>
              <a:tblGrid>
                <a:gridCol w="842760"/>
                <a:gridCol w="628920"/>
                <a:gridCol w="704880"/>
                <a:gridCol w="4844880"/>
                <a:gridCol w="1008000"/>
              </a:tblGrid>
              <a:tr h="55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11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가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역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모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적용 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전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89" name="Text Box 3"/>
          <p:cNvSpPr/>
          <p:nvPr/>
        </p:nvSpPr>
        <p:spPr>
          <a:xfrm>
            <a:off x="351000" y="293760"/>
            <a:ext cx="75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6. 11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가지 역량의 적합성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2022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년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2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월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31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까지 적용가능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선 연결선 8"/>
          <p:cNvSpPr/>
          <p:nvPr/>
        </p:nvSpPr>
        <p:spPr>
          <a:xfrm>
            <a:off x="438120" y="819000"/>
            <a:ext cx="326700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 운영 사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선 연결선 5"/>
          <p:cNvSpPr/>
          <p:nvPr/>
        </p:nvSpPr>
        <p:spPr>
          <a:xfrm>
            <a:off x="438120" y="819000"/>
            <a:ext cx="231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893880" y="156996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결석에 대한 운영 규칙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893880" y="297504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Follow up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과정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탱구구</dc:creator>
  <dc:description/>
  <dc:language>en-US</dc:language>
  <cp:lastModifiedBy>인증지원팀</cp:lastModifiedBy>
  <cp:lastPrinted>2016-01-08T05:22:56Z</cp:lastPrinted>
  <dcterms:modified xsi:type="dcterms:W3CDTF">2022-08-17T07:19:47Z</dcterms:modified>
  <cp:revision>137</cp:revision>
  <dc:subject/>
  <dc:title>슬라이드 1</dc:title>
</cp:coreProperties>
</file>