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F9C7C-77BB-47A6-B5F2-B7C2CC501FC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56F2-2622-4AA5-9B95-25765F36F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5300-D493-498B-BA89-32E55BE86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1CAD-760C-4CD4-B6C5-42857BD9D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D258-A113-4463-9803-AA3466E87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E4FD-DF32-46CD-A6A7-35FF1C909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9A1E-3D66-4CCE-BBF5-ECBE4070E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F6F4-F161-4EE7-9E11-769C48FA1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B447-DA3E-4DAF-BB5F-F5974551F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84C6-3B85-4D42-B9B1-A52FF53C1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541D-C8B3-4A84-944F-A51DA815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009E-9295-44D0-8019-465E76CB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A37B-EB50-45BB-840D-6A84DD06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굴림"/>
              </a:rPr>
              <a:t>인증</a:t>
            </a:r>
            <a:r>
              <a:rPr b="0" lang="en-US" sz="1200" spc="-1" strike="noStrike">
                <a:solidFill>
                  <a:srgbClr val="898989"/>
                </a:solidFill>
                <a:latin typeface="굴림"/>
              </a:rPr>
              <a:t>_2_8_v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171EF-159C-4DA9-9BF9-26B2FA0F8BCD}" type="slidenum">
              <a:rPr b="0" lang="en-US" sz="1200" spc="-1" strike="noStrike">
                <a:solidFill>
                  <a:srgbClr val="898989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>
            <a:alpha val="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0"/>
          <p:cNvSpPr/>
          <p:nvPr/>
        </p:nvSpPr>
        <p:spPr>
          <a:xfrm>
            <a:off x="309600" y="5191200"/>
            <a:ext cx="756108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나눔고딕 ExtraBold"/>
                <a:ea typeface="나눔고딕 ExtraBold"/>
              </a:rPr>
              <a:t>· ACPK </a:t>
            </a:r>
            <a:r>
              <a:rPr b="0" lang="ko-KR" sz="1400" spc="-1" strike="noStrike">
                <a:solidFill>
                  <a:srgbClr val="595959"/>
                </a:solidFill>
                <a:latin typeface="나눔고딕 ExtraBold"/>
                <a:ea typeface="나눔고딕 ExtraBold"/>
              </a:rPr>
              <a:t>프로그램 연장 심사는 기본적으로 제출된 서류를 근거로 하고 있습니다</a:t>
            </a:r>
            <a:r>
              <a:rPr b="0" lang="en-US" sz="1400" spc="-1" strike="noStrike">
                <a:solidFill>
                  <a:srgbClr val="595959"/>
                </a:solidFill>
                <a:latin typeface="나눔고딕 ExtraBold"/>
                <a:ea typeface="나눔고딕 ExtraBold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나눔고딕 ExtraBold"/>
                <a:ea typeface="나눔고딕 ExtraBold"/>
              </a:rPr>
              <a:t>· ACPK</a:t>
            </a:r>
            <a:r>
              <a:rPr b="0" lang="ko-KR" sz="1400" spc="-1" strike="noStrike">
                <a:solidFill>
                  <a:srgbClr val="595959"/>
                </a:solidFill>
                <a:latin typeface="나눔고딕 ExtraBold"/>
                <a:ea typeface="나눔고딕 ExtraBold"/>
              </a:rPr>
              <a:t> </a:t>
            </a:r>
            <a:r>
              <a:rPr b="0" lang="ko-KR" sz="1400" spc="-1" strike="noStrike">
                <a:solidFill>
                  <a:srgbClr val="595959"/>
                </a:solidFill>
                <a:latin typeface="나눔고딕 ExtraBold"/>
                <a:ea typeface="나눔고딕 ExtraBold"/>
              </a:rPr>
              <a:t>프로그램 설명서를 자세히 기록하여 주십시오</a:t>
            </a:r>
            <a:r>
              <a:rPr b="0" lang="en-US" sz="1400" spc="-1" strike="noStrike">
                <a:solidFill>
                  <a:srgbClr val="595959"/>
                </a:solidFill>
                <a:latin typeface="나눔고딕 ExtraBold"/>
                <a:ea typeface="나눔고딕 ExtraBold"/>
              </a:rPr>
              <a:t>.</a:t>
            </a:r>
            <a:r>
              <a:rPr b="0" lang="en-US" sz="2000" spc="-1" strike="noStrike">
                <a:solidFill>
                  <a:srgbClr val="595959"/>
                </a:solidFill>
                <a:latin typeface="나눔고딕 ExtraBold"/>
                <a:ea typeface="나눔고딕 ExtraBold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264960" y="2085840"/>
            <a:ext cx="862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프로그램명</a:t>
            </a:r>
            <a:r>
              <a:rPr b="0" lang="en-US" sz="32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Box 10"/>
          <p:cNvSpPr/>
          <p:nvPr/>
        </p:nvSpPr>
        <p:spPr>
          <a:xfrm>
            <a:off x="264960" y="3429000"/>
            <a:ext cx="862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지원기관</a:t>
            </a:r>
            <a:r>
              <a:rPr b="0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지원일</a:t>
            </a:r>
            <a:r>
              <a:rPr b="0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오각형 13"/>
          <p:cNvSpPr/>
          <p:nvPr/>
        </p:nvSpPr>
        <p:spPr>
          <a:xfrm flipH="1">
            <a:off x="3114720" y="409680"/>
            <a:ext cx="6038640" cy="666720"/>
          </a:xfrm>
          <a:custGeom>
            <a:avLst/>
            <a:gdLst>
              <a:gd name="textAreaLeft" fmla="*/ 360 w 6038640"/>
              <a:gd name="textAreaRight" fmla="*/ 6039360 w 6038640"/>
              <a:gd name="textAreaTop" fmla="*/ 0 h 666720"/>
              <a:gd name="textAreaBottom" fmla="*/ 667080 h 66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08" y="0"/>
                </a:lnTo>
                <a:lnTo>
                  <a:pt x="21600" y="10800"/>
                </a:lnTo>
                <a:lnTo>
                  <a:pt x="2040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ACPK</a:t>
            </a:r>
            <a:r>
              <a:rPr b="0" lang="ko-KR" sz="20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 </a:t>
            </a:r>
            <a:r>
              <a:rPr b="0" lang="ko-KR" sz="20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프로그램 설명서 </a:t>
            </a:r>
            <a:r>
              <a:rPr b="0" lang="en-US" sz="20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[</a:t>
            </a:r>
            <a:r>
              <a:rPr b="0" lang="ko-KR" sz="20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기초</a:t>
            </a:r>
            <a:r>
              <a:rPr b="0" lang="en-US" sz="20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그림 14" descr=""/>
          <p:cNvPicPr/>
          <p:nvPr/>
        </p:nvPicPr>
        <p:blipFill>
          <a:blip r:embed="rId1"/>
          <a:stretch/>
        </p:blipFill>
        <p:spPr>
          <a:xfrm>
            <a:off x="264960" y="-9360"/>
            <a:ext cx="1200240" cy="1083960"/>
          </a:xfrm>
          <a:prstGeom prst="rect">
            <a:avLst/>
          </a:prstGeom>
          <a:ln w="0">
            <a:noFill/>
          </a:ln>
        </p:spPr>
      </p:pic>
      <p:sp>
        <p:nvSpPr>
          <p:cNvPr id="53" name="바닥글 개체 틀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8_v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8-1. 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개발자 프로필 </a:t>
            </a: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(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자유양식</a:t>
            </a: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L 도형 3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직선 연결선 5"/>
          <p:cNvSpPr/>
          <p:nvPr/>
        </p:nvSpPr>
        <p:spPr>
          <a:xfrm>
            <a:off x="438120" y="819000"/>
            <a:ext cx="400068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893880" y="1569960"/>
            <a:ext cx="402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작성 필수 사항</a:t>
            </a:r>
            <a:r>
              <a:rPr b="0" lang="en-US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: </a:t>
            </a: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개발자 이름 </a:t>
            </a:r>
            <a:r>
              <a:rPr b="0" lang="en-US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/ </a:t>
            </a: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코치인증 자격 유무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갈매기형 수장 8"/>
          <p:cNvSpPr/>
          <p:nvPr/>
        </p:nvSpPr>
        <p:spPr>
          <a:xfrm>
            <a:off x="257040" y="1467000"/>
            <a:ext cx="516240" cy="515880"/>
          </a:xfrm>
          <a:custGeom>
            <a:avLst/>
            <a:gdLst>
              <a:gd name="textAreaLeft" fmla="*/ 0 w 516240"/>
              <a:gd name="textAreaRight" fmla="*/ 516600 w 516240"/>
              <a:gd name="textAreaTop" fmla="*/ 0 h 515880"/>
              <a:gd name="textAreaBottom" fmla="*/ 516240 h 51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바닥글 개체 틀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8_v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8-2. 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교육 책임자 프로필 </a:t>
            </a: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(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자유양식</a:t>
            </a: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L 도형 3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직선 연결선 5"/>
          <p:cNvSpPr/>
          <p:nvPr/>
        </p:nvSpPr>
        <p:spPr>
          <a:xfrm>
            <a:off x="438120" y="819000"/>
            <a:ext cx="461016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893880" y="1569960"/>
            <a:ext cx="804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작성 필수 사항</a:t>
            </a:r>
            <a:r>
              <a:rPr b="0" lang="en-US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: </a:t>
            </a: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교육 책임자 이름 </a:t>
            </a:r>
            <a:r>
              <a:rPr b="0" lang="en-US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/ </a:t>
            </a: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코치인증 자격 유무 </a:t>
            </a:r>
            <a:r>
              <a:rPr b="0" lang="en-US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/ </a:t>
            </a: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인증자격 번호 </a:t>
            </a:r>
            <a:r>
              <a:rPr b="0" lang="en-US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/ </a:t>
            </a: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인증자격 상태 </a:t>
            </a:r>
            <a:r>
              <a:rPr b="1" lang="en-US" sz="1400" spc="-1" strike="noStrike">
                <a:solidFill>
                  <a:srgbClr val="c0504d"/>
                </a:solidFill>
                <a:latin typeface="나눔고딕"/>
                <a:ea typeface="나눔고딕"/>
              </a:rPr>
              <a:t>(KPC </a:t>
            </a:r>
            <a:r>
              <a:rPr b="1" lang="ko-KR" sz="1400" spc="-1" strike="noStrike">
                <a:solidFill>
                  <a:srgbClr val="c0504d"/>
                </a:solidFill>
                <a:latin typeface="나눔고딕"/>
                <a:ea typeface="나눔고딕"/>
              </a:rPr>
              <a:t>이상 가능</a:t>
            </a:r>
            <a:r>
              <a:rPr b="1" lang="en-US" sz="1400" spc="-1" strike="noStrike">
                <a:solidFill>
                  <a:srgbClr val="c0504d"/>
                </a:solidFill>
                <a:latin typeface="나눔고딕"/>
                <a:ea typeface="나눔고딕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갈매기형 수장 8"/>
          <p:cNvSpPr/>
          <p:nvPr/>
        </p:nvSpPr>
        <p:spPr>
          <a:xfrm>
            <a:off x="257040" y="1467000"/>
            <a:ext cx="516240" cy="515880"/>
          </a:xfrm>
          <a:custGeom>
            <a:avLst/>
            <a:gdLst>
              <a:gd name="textAreaLeft" fmla="*/ 0 w 516240"/>
              <a:gd name="textAreaRight" fmla="*/ 516600 w 516240"/>
              <a:gd name="textAreaTop" fmla="*/ 0 h 515880"/>
              <a:gd name="textAreaBottom" fmla="*/ 516240 h 51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바닥글 개체 틀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8_v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8-3. 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강사 프로필 </a:t>
            </a: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(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자유양식</a:t>
            </a: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L 도형 3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직선 연결선 5"/>
          <p:cNvSpPr/>
          <p:nvPr/>
        </p:nvSpPr>
        <p:spPr>
          <a:xfrm>
            <a:off x="438120" y="819000"/>
            <a:ext cx="370512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893880" y="1569960"/>
            <a:ext cx="745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작성 필수 사항</a:t>
            </a:r>
            <a:r>
              <a:rPr b="0" lang="en-US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: </a:t>
            </a: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강사 이름 </a:t>
            </a:r>
            <a:r>
              <a:rPr b="0" lang="en-US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/ </a:t>
            </a: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코치인증 자격 유무 </a:t>
            </a:r>
            <a:r>
              <a:rPr b="0" lang="en-US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/ </a:t>
            </a: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인증자격 번호 </a:t>
            </a:r>
            <a:r>
              <a:rPr b="0" lang="en-US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/ </a:t>
            </a: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인증자격 상태 </a:t>
            </a:r>
            <a:r>
              <a:rPr b="1" lang="en-US" sz="1400" spc="-1" strike="noStrike">
                <a:solidFill>
                  <a:srgbClr val="c0504d"/>
                </a:solidFill>
                <a:latin typeface="나눔고딕"/>
                <a:ea typeface="나눔고딕"/>
              </a:rPr>
              <a:t>(KPC </a:t>
            </a:r>
            <a:r>
              <a:rPr b="1" lang="ko-KR" sz="1400" spc="-1" strike="noStrike">
                <a:solidFill>
                  <a:srgbClr val="c0504d"/>
                </a:solidFill>
                <a:latin typeface="나눔고딕"/>
                <a:ea typeface="나눔고딕"/>
              </a:rPr>
              <a:t>이상 가능</a:t>
            </a:r>
            <a:r>
              <a:rPr b="1" lang="en-US" sz="1400" spc="-1" strike="noStrike">
                <a:solidFill>
                  <a:srgbClr val="c0504d"/>
                </a:solidFill>
                <a:latin typeface="나눔고딕"/>
                <a:ea typeface="나눔고딕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갈매기형 수장 8"/>
          <p:cNvSpPr/>
          <p:nvPr/>
        </p:nvSpPr>
        <p:spPr>
          <a:xfrm>
            <a:off x="257040" y="1467000"/>
            <a:ext cx="516240" cy="515880"/>
          </a:xfrm>
          <a:custGeom>
            <a:avLst/>
            <a:gdLst>
              <a:gd name="textAreaLeft" fmla="*/ 0 w 516240"/>
              <a:gd name="textAreaRight" fmla="*/ 516600 w 516240"/>
              <a:gd name="textAreaTop" fmla="*/ 0 h 515880"/>
              <a:gd name="textAreaBottom" fmla="*/ 516240 h 51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바닥글 개체 틀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8_v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9. 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수료생 리스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L 도형 3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직선 연결선 5"/>
          <p:cNvSpPr/>
          <p:nvPr/>
        </p:nvSpPr>
        <p:spPr>
          <a:xfrm>
            <a:off x="438120" y="819000"/>
            <a:ext cx="224784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3" name="표 9" descr=""/>
          <p:cNvPicPr/>
          <p:nvPr/>
        </p:nvPicPr>
        <p:blipFill>
          <a:blip r:embed="rId1"/>
          <a:stretch/>
        </p:blipFill>
        <p:spPr>
          <a:xfrm>
            <a:off x="615960" y="1311120"/>
            <a:ext cx="7918560" cy="4499280"/>
          </a:xfrm>
          <a:prstGeom prst="rect">
            <a:avLst/>
          </a:prstGeom>
          <a:ln w="0">
            <a:noFill/>
          </a:ln>
        </p:spPr>
      </p:pic>
      <p:sp>
        <p:nvSpPr>
          <p:cNvPr id="124" name="바닥글 개체 틀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8_v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TextBox 1"/>
          <p:cNvSpPr/>
          <p:nvPr/>
        </p:nvSpPr>
        <p:spPr>
          <a:xfrm>
            <a:off x="1027080" y="895320"/>
            <a:ext cx="446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404040"/>
                </a:solidFill>
                <a:latin typeface="나눔스퀘어라운드 ExtraBold"/>
                <a:ea typeface="나눔스퀘어라운드 ExtraBold"/>
              </a:rPr>
              <a:t>◆ </a:t>
            </a:r>
            <a:r>
              <a:rPr b="1" lang="ko-KR" sz="1600" spc="-1" strike="noStrike">
                <a:solidFill>
                  <a:srgbClr val="404040"/>
                </a:solidFill>
                <a:latin typeface="나눔스퀘어라운드 ExtraBold"/>
                <a:ea typeface="나눔스퀘어라운드 ExtraBold"/>
              </a:rPr>
              <a:t>기입 요령</a:t>
            </a:r>
            <a:r>
              <a:rPr b="1" lang="en-US" sz="1600" spc="-1" strike="noStrike">
                <a:solidFill>
                  <a:srgbClr val="404040"/>
                </a:solidFill>
                <a:latin typeface="나눔스퀘어라운드 ExtraBold"/>
                <a:ea typeface="나눔스퀘어라운드 ExtraBold"/>
              </a:rPr>
              <a:t>: </a:t>
            </a:r>
            <a:r>
              <a:rPr b="1" lang="ko-KR" sz="1600" spc="-1" strike="noStrike">
                <a:solidFill>
                  <a:srgbClr val="404040"/>
                </a:solidFill>
                <a:latin typeface="나눔스퀘어라운드 ExtraBold"/>
                <a:ea typeface="나눔스퀘어라운드 ExtraBold"/>
              </a:rPr>
              <a:t>수료생 전원 기입 </a:t>
            </a:r>
            <a:r>
              <a:rPr b="1" lang="en-US" sz="1600" spc="-1" strike="noStrike">
                <a:solidFill>
                  <a:srgbClr val="404040"/>
                </a:solidFill>
                <a:latin typeface="나눔스퀘어라운드 ExtraBold"/>
                <a:ea typeface="나눔스퀘어라운드 ExtraBold"/>
              </a:rPr>
              <a:t>/ </a:t>
            </a:r>
            <a:r>
              <a:rPr b="1" lang="ko-KR" sz="1600" spc="-1" strike="noStrike">
                <a:solidFill>
                  <a:srgbClr val="404040"/>
                </a:solidFill>
                <a:latin typeface="나눔스퀘어라운드 ExtraBold"/>
                <a:ea typeface="나눔스퀘어라운드 ExtraBold"/>
              </a:rPr>
              <a:t>다양한 기수 수료생 </a:t>
            </a:r>
            <a:r>
              <a:rPr b="1" lang="en-US" sz="1600" spc="-1" strike="noStrike">
                <a:solidFill>
                  <a:srgbClr val="404040"/>
                </a:solidFill>
                <a:latin typeface="나눔스퀘어라운드 ExtraBold"/>
                <a:ea typeface="나눔스퀘어라운드 ExtraBold"/>
              </a:rPr>
              <a:t>/ </a:t>
            </a:r>
            <a:r>
              <a:rPr b="1" lang="ko-KR" sz="1600" spc="-1" strike="noStrike">
                <a:solidFill>
                  <a:srgbClr val="404040"/>
                </a:solidFill>
                <a:latin typeface="나눔스퀘어라운드 ExtraBold"/>
                <a:ea typeface="나눔스퀘어라운드 ExtraBold"/>
              </a:rPr>
              <a:t>교육일 명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6" name="바닥글 개체 틀 4" descr=""/>
          <p:cNvPicPr/>
          <p:nvPr/>
        </p:nvPicPr>
        <p:blipFill>
          <a:blip r:embed="rId2"/>
          <a:stretch/>
        </p:blipFill>
        <p:spPr>
          <a:xfrm>
            <a:off x="438120" y="5986440"/>
            <a:ext cx="8388360" cy="4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47680" y="1285560"/>
            <a:ext cx="822960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1. </a:t>
            </a:r>
            <a:r>
              <a:rPr b="0" lang="ko-KR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프로그램 특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2. </a:t>
            </a:r>
            <a:r>
              <a:rPr b="0" lang="ko-KR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학습 목표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3. </a:t>
            </a:r>
            <a:r>
              <a:rPr b="0" lang="ko-KR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프로그램 운영 프로세스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4. </a:t>
            </a:r>
            <a:r>
              <a:rPr b="0" lang="ko-KR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프로그램 세부 설명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5. </a:t>
            </a:r>
            <a:r>
              <a:rPr b="0" lang="ko-KR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프로그램 시간 운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6. 11</a:t>
            </a:r>
            <a:r>
              <a:rPr b="0" lang="ko-KR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가지 핵심역량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7. </a:t>
            </a:r>
            <a:r>
              <a:rPr b="0" lang="ko-KR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기타 운영 사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8. </a:t>
            </a:r>
            <a:r>
              <a:rPr b="0" lang="ko-KR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프로필</a:t>
            </a:r>
            <a:r>
              <a:rPr b="0" lang="en-US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 </a:t>
            </a:r>
            <a:r>
              <a:rPr b="0" lang="en-US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- ① </a:t>
            </a:r>
            <a:r>
              <a:rPr b="0" lang="ko-KR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프로그램 개발자   ② 교육책임자   ③ 강사 </a:t>
            </a:r>
            <a:r>
              <a:rPr b="0" lang="en-US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2</a:t>
            </a:r>
            <a:r>
              <a:rPr b="0" lang="ko-KR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9. </a:t>
            </a:r>
            <a:r>
              <a:rPr b="0" lang="ko-KR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수료생 리스트 </a:t>
            </a:r>
            <a:r>
              <a:rPr b="0" lang="en-US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(</a:t>
            </a:r>
            <a:r>
              <a:rPr b="0" lang="ko-KR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이름</a:t>
            </a:r>
            <a:r>
              <a:rPr b="0" lang="en-US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, </a:t>
            </a:r>
            <a:r>
              <a:rPr b="0" lang="ko-KR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교육일</a:t>
            </a:r>
            <a:r>
              <a:rPr b="0" lang="en-US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, </a:t>
            </a:r>
            <a:r>
              <a:rPr b="0" lang="ko-KR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강사</a:t>
            </a:r>
            <a:r>
              <a:rPr b="0" lang="en-US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7760" y="398160"/>
            <a:ext cx="555300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목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1/2 액자 6"/>
          <p:cNvSpPr/>
          <p:nvPr/>
        </p:nvSpPr>
        <p:spPr>
          <a:xfrm>
            <a:off x="247680" y="189000"/>
            <a:ext cx="895320" cy="915840"/>
          </a:xfrm>
          <a:custGeom>
            <a:avLst/>
            <a:gdLst/>
            <a:ahLst/>
            <a:rect l="l" t="t" r="r" b="b"/>
            <a:pathLst>
              <a:path w="895350" h="915987">
                <a:moveTo>
                  <a:pt x="0" y="0"/>
                </a:moveTo>
                <a:lnTo>
                  <a:pt x="895350" y="0"/>
                </a:lnTo>
                <a:lnTo>
                  <a:pt x="713882" y="185651"/>
                </a:lnTo>
                <a:lnTo>
                  <a:pt x="164503" y="185651"/>
                </a:lnTo>
                <a:lnTo>
                  <a:pt x="164503" y="747693"/>
                </a:lnTo>
                <a:lnTo>
                  <a:pt x="0" y="915987"/>
                </a:lnTo>
                <a:lnTo>
                  <a:pt x="0" y="0"/>
                </a:lnTo>
                <a:close/>
              </a:path>
            </a:pathLst>
          </a:cu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바닥글 개체 틀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8_v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1. 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프로그램 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L 도형 3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사각형 1"/>
          <p:cNvSpPr/>
          <p:nvPr/>
        </p:nvSpPr>
        <p:spPr>
          <a:xfrm>
            <a:off x="257040" y="1467000"/>
            <a:ext cx="516240" cy="51588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6"/>
          <p:cNvSpPr/>
          <p:nvPr/>
        </p:nvSpPr>
        <p:spPr>
          <a:xfrm>
            <a:off x="257040" y="2871720"/>
            <a:ext cx="516240" cy="51588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직사각형 7"/>
          <p:cNvSpPr/>
          <p:nvPr/>
        </p:nvSpPr>
        <p:spPr>
          <a:xfrm>
            <a:off x="257040" y="4276800"/>
            <a:ext cx="516240" cy="51588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선 연결선 5"/>
          <p:cNvSpPr/>
          <p:nvPr/>
        </p:nvSpPr>
        <p:spPr>
          <a:xfrm>
            <a:off x="438120" y="819000"/>
            <a:ext cx="229572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바닥글 개체 틀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8_v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2. 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학습목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 도형 3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직사각형 1"/>
          <p:cNvSpPr/>
          <p:nvPr/>
        </p:nvSpPr>
        <p:spPr>
          <a:xfrm>
            <a:off x="257040" y="1467000"/>
            <a:ext cx="516240" cy="51588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직사각형 6"/>
          <p:cNvSpPr/>
          <p:nvPr/>
        </p:nvSpPr>
        <p:spPr>
          <a:xfrm>
            <a:off x="257040" y="2871720"/>
            <a:ext cx="516240" cy="51588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직사각형 7"/>
          <p:cNvSpPr/>
          <p:nvPr/>
        </p:nvSpPr>
        <p:spPr>
          <a:xfrm>
            <a:off x="257040" y="4276800"/>
            <a:ext cx="516240" cy="51588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직선 연결선 5"/>
          <p:cNvSpPr/>
          <p:nvPr/>
        </p:nvSpPr>
        <p:spPr>
          <a:xfrm>
            <a:off x="438120" y="819000"/>
            <a:ext cx="162864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바닥글 개체 틀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8_v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3. 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프로그램 운영 프로세스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L 도형 3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선 연결선 5"/>
          <p:cNvSpPr/>
          <p:nvPr/>
        </p:nvSpPr>
        <p:spPr>
          <a:xfrm>
            <a:off x="438120" y="819000"/>
            <a:ext cx="351324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바닥글 개체 틀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8_v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4. 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프로그램 세부 설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L 도형 3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직선 연결선 8"/>
          <p:cNvSpPr/>
          <p:nvPr/>
        </p:nvSpPr>
        <p:spPr>
          <a:xfrm>
            <a:off x="438120" y="819000"/>
            <a:ext cx="289548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61880" y="1301760"/>
          <a:ext cx="8220240" cy="4184640"/>
        </p:xfrm>
        <a:graphic>
          <a:graphicData uri="http://schemas.openxmlformats.org/drawingml/2006/table">
            <a:tbl>
              <a:tblPr/>
              <a:tblGrid>
                <a:gridCol w="1176480"/>
                <a:gridCol w="1495440"/>
                <a:gridCol w="2952720"/>
                <a:gridCol w="1866960"/>
                <a:gridCol w="728640"/>
              </a:tblGrid>
              <a:tr h="689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모듈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목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주요 교육 내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세부진행시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이론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활동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코칭 실습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해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페이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847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933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866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847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  <p:sp>
        <p:nvSpPr>
          <p:cNvPr id="80" name="바닥글 개체 틀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8_v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바닥글 개체 틀 4"/>
          <p:cNvSpPr/>
          <p:nvPr/>
        </p:nvSpPr>
        <p:spPr>
          <a:xfrm>
            <a:off x="438120" y="5986440"/>
            <a:ext cx="8391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* </a:t>
            </a:r>
            <a:r>
              <a:rPr b="0" lang="ko-KR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활동</a:t>
            </a:r>
            <a:r>
              <a:rPr b="0" lang="en-US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: </a:t>
            </a:r>
            <a:r>
              <a:rPr b="0" lang="ko-KR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코칭 역량 개발과 직접 관련 없는 게임</a:t>
            </a:r>
            <a:r>
              <a:rPr b="0" lang="en-US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, </a:t>
            </a:r>
            <a:r>
              <a:rPr b="0" lang="ko-KR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토의</a:t>
            </a:r>
            <a:r>
              <a:rPr b="0" lang="en-US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, </a:t>
            </a:r>
            <a:r>
              <a:rPr b="0" lang="ko-KR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발표</a:t>
            </a:r>
            <a:r>
              <a:rPr b="0" lang="en-US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, </a:t>
            </a:r>
            <a:r>
              <a:rPr b="0" lang="ko-KR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진단 등 이론 교육 이외의 활동</a:t>
            </a:r>
            <a:r>
              <a:rPr b="0" lang="en-US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.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* </a:t>
            </a:r>
            <a:r>
              <a:rPr b="0" lang="ko-KR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코칭 실습</a:t>
            </a:r>
            <a:r>
              <a:rPr b="0" lang="en-US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: </a:t>
            </a:r>
            <a:r>
              <a:rPr b="0" lang="ko-KR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코칭 역량 개발과 직접 관련 있는 코칭 스킬</a:t>
            </a:r>
            <a:r>
              <a:rPr b="0" lang="en-US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, </a:t>
            </a:r>
            <a:r>
              <a:rPr b="0" lang="ko-KR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코칭 프로세스 등의 습득을 위한 코칭 실습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5. 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프로그램 시간 운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L 도형 3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직선 연결선 8"/>
          <p:cNvSpPr/>
          <p:nvPr/>
        </p:nvSpPr>
        <p:spPr>
          <a:xfrm>
            <a:off x="438120" y="819000"/>
            <a:ext cx="290520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84280" y="1305000"/>
          <a:ext cx="7975440" cy="4722840"/>
        </p:xfrm>
        <a:graphic>
          <a:graphicData uri="http://schemas.openxmlformats.org/drawingml/2006/table">
            <a:tbl>
              <a:tblPr/>
              <a:tblGrid>
                <a:gridCol w="2314440"/>
                <a:gridCol w="998640"/>
                <a:gridCol w="777960"/>
                <a:gridCol w="576000"/>
                <a:gridCol w="1035360"/>
                <a:gridCol w="679320"/>
                <a:gridCol w="780840"/>
                <a:gridCol w="812880"/>
              </a:tblGrid>
              <a:tr h="33804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교육내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구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코칭 실습 방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시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분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이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활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코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실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개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일대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그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2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38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3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39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38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3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39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38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3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39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35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총 시간 합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이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: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00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활동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: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00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코칭 실습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: 00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6" name="바닥글 개체 틀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8_v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바닥글 개체 틀 4"/>
          <p:cNvSpPr/>
          <p:nvPr/>
        </p:nvSpPr>
        <p:spPr>
          <a:xfrm>
            <a:off x="438120" y="5986440"/>
            <a:ext cx="8391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* </a:t>
            </a:r>
            <a:r>
              <a:rPr b="0" lang="ko-KR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활동</a:t>
            </a:r>
            <a:r>
              <a:rPr b="0" lang="en-US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: </a:t>
            </a:r>
            <a:r>
              <a:rPr b="0" lang="ko-KR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코칭 역량 개발과 직접 관련 없는 게임</a:t>
            </a:r>
            <a:r>
              <a:rPr b="0" lang="en-US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, </a:t>
            </a:r>
            <a:r>
              <a:rPr b="0" lang="ko-KR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토의</a:t>
            </a:r>
            <a:r>
              <a:rPr b="0" lang="en-US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, </a:t>
            </a:r>
            <a:r>
              <a:rPr b="0" lang="ko-KR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발표</a:t>
            </a:r>
            <a:r>
              <a:rPr b="0" lang="en-US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, </a:t>
            </a:r>
            <a:r>
              <a:rPr b="0" lang="ko-KR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진단 등 이론 교육 이외의 활동</a:t>
            </a:r>
            <a:r>
              <a:rPr b="0" lang="en-US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.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* </a:t>
            </a:r>
            <a:r>
              <a:rPr b="0" lang="ko-KR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코칭 실습</a:t>
            </a:r>
            <a:r>
              <a:rPr b="0" lang="en-US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: </a:t>
            </a:r>
            <a:r>
              <a:rPr b="0" lang="ko-KR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코칭 역량 개발과 직접 관련 있는 코칭 스킬</a:t>
            </a:r>
            <a:r>
              <a:rPr b="0" lang="en-US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, </a:t>
            </a:r>
            <a:r>
              <a:rPr b="0" lang="ko-KR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코칭 프로세스 등의 습득을 위한 코칭 실습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557280" y="1314360"/>
          <a:ext cx="8029440" cy="4942080"/>
        </p:xfrm>
        <a:graphic>
          <a:graphicData uri="http://schemas.openxmlformats.org/drawingml/2006/table">
            <a:tbl>
              <a:tblPr/>
              <a:tblGrid>
                <a:gridCol w="842760"/>
                <a:gridCol w="628920"/>
                <a:gridCol w="704880"/>
                <a:gridCol w="4844880"/>
                <a:gridCol w="1008000"/>
              </a:tblGrid>
              <a:tr h="552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11</a:t>
                      </a: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가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역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해당모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페이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주요 내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적용 시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365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66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65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66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65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66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65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65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66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65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66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65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전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  <p:sp>
        <p:nvSpPr>
          <p:cNvPr id="89" name="Text Box 3"/>
          <p:cNvSpPr/>
          <p:nvPr/>
        </p:nvSpPr>
        <p:spPr>
          <a:xfrm>
            <a:off x="351000" y="293760"/>
            <a:ext cx="75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6. 11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가지 역량의 적합성</a:t>
            </a: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(2022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년</a:t>
            </a: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12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월</a:t>
            </a: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31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까지 적용가능</a:t>
            </a: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L 도형 3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선 연결선 8"/>
          <p:cNvSpPr/>
          <p:nvPr/>
        </p:nvSpPr>
        <p:spPr>
          <a:xfrm>
            <a:off x="438120" y="819000"/>
            <a:ext cx="326700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바닥글 개체 틀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8_v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7. 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기타 운영 사항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L 도형 3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직사각형 1"/>
          <p:cNvSpPr/>
          <p:nvPr/>
        </p:nvSpPr>
        <p:spPr>
          <a:xfrm>
            <a:off x="257040" y="1467000"/>
            <a:ext cx="516240" cy="51588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직사각형 6"/>
          <p:cNvSpPr/>
          <p:nvPr/>
        </p:nvSpPr>
        <p:spPr>
          <a:xfrm>
            <a:off x="257040" y="2871720"/>
            <a:ext cx="516240" cy="51588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직사각형 7"/>
          <p:cNvSpPr/>
          <p:nvPr/>
        </p:nvSpPr>
        <p:spPr>
          <a:xfrm>
            <a:off x="257040" y="4276800"/>
            <a:ext cx="516240" cy="51588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직선 연결선 5"/>
          <p:cNvSpPr/>
          <p:nvPr/>
        </p:nvSpPr>
        <p:spPr>
          <a:xfrm>
            <a:off x="438120" y="819000"/>
            <a:ext cx="231444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4"/>
          <p:cNvSpPr/>
          <p:nvPr/>
        </p:nvSpPr>
        <p:spPr>
          <a:xfrm>
            <a:off x="893880" y="1569960"/>
            <a:ext cx="305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결석에 대한 운영 규칙 등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바닥글 개체 틀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8_v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TextBox 10"/>
          <p:cNvSpPr/>
          <p:nvPr/>
        </p:nvSpPr>
        <p:spPr>
          <a:xfrm>
            <a:off x="893880" y="2975040"/>
            <a:ext cx="305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Follow up </a:t>
            </a: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과정 등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0T07:14:56Z</dcterms:created>
  <dc:creator>탱구구</dc:creator>
  <dc:description/>
  <dc:language>en-US</dc:language>
  <cp:lastModifiedBy>인증지원팀</cp:lastModifiedBy>
  <cp:lastPrinted>2016-01-08T05:22:56Z</cp:lastPrinted>
  <dcterms:modified xsi:type="dcterms:W3CDTF">2022-08-17T07:19:47Z</dcterms:modified>
  <cp:revision>137</cp:revision>
  <dc:subject/>
  <dc:title>슬라이드 1</dc:title>
</cp:coreProperties>
</file>