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22FB-2CE0-4FB3-9394-67C9ABEDADE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D52-E89E-4052-B19A-06405634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3E9-BFF5-4ECA-BCBC-000BB8EC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577-A87E-4DF9-9C3C-1749B600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ED8-7915-42D0-A3E9-8C63158B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F02-9E6B-4D3E-9B11-2471D38D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6B0-9BD3-49FD-BC62-F2291DE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F41-FB9C-4039-B7F8-278C787B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F57-673E-4194-931D-F8945D05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6F1-D16F-40A3-AAEA-28C7F781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EC5-8844-4EE9-A0BC-C7F5D9A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EE2-C13F-4814-82D3-76D34D7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535-3760-4E00-8F49-3E9BD97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7C1-A9C4-4F77-8DAB-E7EA04B57BF9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기관명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운영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5"/>
          <p:cNvSpPr/>
          <p:nvPr/>
        </p:nvSpPr>
        <p:spPr>
          <a:xfrm>
            <a:off x="438120" y="819000"/>
            <a:ext cx="3228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7120" y="1319040"/>
          <a:ext cx="7889760" cy="3538800"/>
        </p:xfrm>
        <a:graphic>
          <a:graphicData uri="http://schemas.openxmlformats.org/drawingml/2006/table">
            <a:tbl>
              <a:tblPr/>
              <a:tblGrid>
                <a:gridCol w="1220760"/>
                <a:gridCol w="1562040"/>
                <a:gridCol w="1266840"/>
                <a:gridCol w="1428840"/>
                <a:gridCol w="2411280"/>
              </a:tblGrid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뢰기업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담당자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수료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참가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강사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인증보유 유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85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4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5"/>
          <p:cNvSpPr/>
          <p:nvPr/>
        </p:nvSpPr>
        <p:spPr>
          <a:xfrm>
            <a:off x="438120" y="819000"/>
            <a:ext cx="12193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8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85960" y="157176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팔로우업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885960" y="297648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변동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User</cp:lastModifiedBy>
  <cp:lastPrinted>2016-01-08T05:22:56Z</cp:lastPrinted>
  <dcterms:modified xsi:type="dcterms:W3CDTF">2020-06-04T07:02:31Z</dcterms:modified>
  <cp:revision>129</cp:revision>
  <dc:subject/>
  <dc:title>슬라이드 1</dc:title>
</cp:coreProperties>
</file>