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8E8C-5D1C-47EC-AEDA-C1026FC36F7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A17-D568-4759-A56A-39E128D8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7836-D8E4-47E8-8E7C-DAD9AF6C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5880-1712-45FD-B0FC-55230C7D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8D8E-1BA7-49C3-BB57-05BD4D36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1870-DF80-4ACD-932A-1ABCC4BD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A8E4-59B2-4CEC-B916-33DD5FCD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2F88-F072-430D-8578-4617806A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795E-8CAF-4FEE-85CB-6412F45C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6A5-736D-45A3-967A-7D1E2E43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7AAC-048B-4C74-847B-CB1C689E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39B-66B2-4AF7-8F77-ABCC2E20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0D1-8FAA-4975-9C66-BA38E437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99CC-DD23-4EAA-BF25-F4CB5C64E67D}" type="slidenum">
              <a:rPr b="0" lang="en-US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5"/>
          <p:cNvSpPr/>
          <p:nvPr/>
        </p:nvSpPr>
        <p:spPr>
          <a:xfrm>
            <a:off x="264960" y="2085840"/>
            <a:ext cx="86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프로그램명</a:t>
            </a:r>
            <a:r>
              <a:rPr b="0" lang="en-US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264960" y="3429000"/>
            <a:ext cx="862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기관명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출일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오각형 13"/>
          <p:cNvSpPr/>
          <p:nvPr/>
        </p:nvSpPr>
        <p:spPr>
          <a:xfrm flipH="1">
            <a:off x="3114720" y="409680"/>
            <a:ext cx="6038640" cy="666720"/>
          </a:xfrm>
          <a:custGeom>
            <a:avLst/>
            <a:gdLst>
              <a:gd name="textAreaLeft" fmla="*/ 360 w 6038640"/>
              <a:gd name="textAreaRight" fmla="*/ 6039360 w 603864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08" y="0"/>
                </a:lnTo>
                <a:lnTo>
                  <a:pt x="21600" y="10800"/>
                </a:lnTo>
                <a:lnTo>
                  <a:pt x="204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ACPK </a:t>
            </a:r>
            <a:r>
              <a:rPr b="0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프로그램 운영 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14" descr=""/>
          <p:cNvPicPr/>
          <p:nvPr/>
        </p:nvPicPr>
        <p:blipFill>
          <a:blip r:embed="rId1"/>
          <a:stretch/>
        </p:blipFill>
        <p:spPr>
          <a:xfrm>
            <a:off x="264960" y="-9360"/>
            <a:ext cx="1200240" cy="1083960"/>
          </a:xfrm>
          <a:prstGeom prst="rect">
            <a:avLst/>
          </a:prstGeom>
          <a:ln w="0">
            <a:noFill/>
          </a:ln>
        </p:spPr>
      </p:pic>
      <p:sp>
        <p:nvSpPr>
          <p:cNvPr id="52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7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운영 세부 설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5"/>
          <p:cNvSpPr/>
          <p:nvPr/>
        </p:nvSpPr>
        <p:spPr>
          <a:xfrm>
            <a:off x="438120" y="819000"/>
            <a:ext cx="32288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27120" y="1319040"/>
          <a:ext cx="7889760" cy="3538800"/>
        </p:xfrm>
        <a:graphic>
          <a:graphicData uri="http://schemas.openxmlformats.org/drawingml/2006/table">
            <a:tbl>
              <a:tblPr/>
              <a:tblGrid>
                <a:gridCol w="1220760"/>
                <a:gridCol w="1562040"/>
                <a:gridCol w="1266840"/>
                <a:gridCol w="1428840"/>
                <a:gridCol w="2411280"/>
              </a:tblGrid>
              <a:tr h="576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대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&amp;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의뢰기업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담당자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&amp;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연락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 수료자 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/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 참가자 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강사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&amp;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연락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인증보유 유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857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6480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760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76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76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57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7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기타사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5"/>
          <p:cNvSpPr/>
          <p:nvPr/>
        </p:nvSpPr>
        <p:spPr>
          <a:xfrm>
            <a:off x="438120" y="819000"/>
            <a:ext cx="12193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8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885960" y="1571760"/>
            <a:ext cx="38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팔로우업 과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885960" y="2976480"/>
            <a:ext cx="38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변동사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7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7:14:56Z</dcterms:created>
  <dc:creator>탱구구</dc:creator>
  <dc:description/>
  <dc:language>en-US</dc:language>
  <cp:lastModifiedBy>User</cp:lastModifiedBy>
  <cp:lastPrinted>2016-01-08T05:22:56Z</cp:lastPrinted>
  <dcterms:modified xsi:type="dcterms:W3CDTF">2020-06-04T07:02:31Z</dcterms:modified>
  <cp:revision>129</cp:revision>
  <dc:subject/>
  <dc:title>슬라이드 1</dc:title>
</cp:coreProperties>
</file>