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E45B-A3B0-40D1-A21C-A3980C72230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DE5-F6C1-4276-911D-588F5BD8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B54-2A54-4B6F-992F-F8F089BA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82C-EA05-4422-8604-0B896C7A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BE2-7AB5-4F1C-9531-7D2A32C7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7C4-1A1A-4E0B-BC7E-7BDA0765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52F-2A48-49A5-8240-B2BCE73E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DEF-15C8-4BF1-9765-8481A6AA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E0C-7D1D-47F6-8C07-E93E4330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E16-50C1-4602-BA36-1F3AEB5C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C1F-91F7-4F7F-8B04-0F911B4E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D34-BA63-4E51-8FC9-F264C80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5DA-555A-4C50-820D-6AC7DBF6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5D43-F150-402A-8C27-825872DB1314}" type="slidenum">
              <a:rPr b="0" lang="en-US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309600" y="5191200"/>
            <a:ext cx="7561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· ACPK </a:t>
            </a:r>
            <a:r>
              <a:rPr b="0" lang="ko-KR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프로그램 심사는 기본적으로 제출된 서류를 근거로 하고 있습니다</a:t>
            </a: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· ACPK</a:t>
            </a:r>
            <a:r>
              <a:rPr b="0" lang="ko-KR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프로그램 설명서를 자세히 기록하여 주십시오</a:t>
            </a:r>
            <a:r>
              <a:rPr b="0" lang="en-US" sz="14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.</a:t>
            </a:r>
            <a:r>
              <a:rPr b="0" lang="en-US" sz="2000" spc="-1" strike="noStrike">
                <a:solidFill>
                  <a:srgbClr val="595959"/>
                </a:solidFill>
                <a:latin typeface="나눔고딕 ExtraBold"/>
                <a:ea typeface="나눔고딕 ExtraBol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4960" y="2085840"/>
            <a:ext cx="86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프로그램명</a:t>
            </a:r>
            <a:r>
              <a:rPr b="0" lang="en-US" sz="32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64960" y="3429000"/>
            <a:ext cx="862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기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원일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오각형 13"/>
          <p:cNvSpPr/>
          <p:nvPr/>
        </p:nvSpPr>
        <p:spPr>
          <a:xfrm flipH="1">
            <a:off x="3114720" y="409680"/>
            <a:ext cx="6038640" cy="666720"/>
          </a:xfrm>
          <a:custGeom>
            <a:avLst/>
            <a:gdLst>
              <a:gd name="textAreaLeft" fmla="*/ 360 w 6038640"/>
              <a:gd name="textAreaRight" fmla="*/ 6039360 w 603864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8" y="0"/>
                </a:lnTo>
                <a:lnTo>
                  <a:pt x="21600" y="10800"/>
                </a:lnTo>
                <a:lnTo>
                  <a:pt x="204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ACPK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프로그램 설명서 </a:t>
            </a: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[</a:t>
            </a:r>
            <a:r>
              <a:rPr b="0" lang="ko-KR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역량</a:t>
            </a:r>
            <a:r>
              <a:rPr b="0" lang="en-US" sz="20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그림 14" descr=""/>
          <p:cNvPicPr/>
          <p:nvPr/>
        </p:nvPicPr>
        <p:blipFill>
          <a:blip r:embed="rId1"/>
          <a:stretch/>
        </p:blipFill>
        <p:spPr>
          <a:xfrm>
            <a:off x="264960" y="-9360"/>
            <a:ext cx="1200240" cy="1083960"/>
          </a:xfrm>
          <a:prstGeom prst="rect">
            <a:avLst/>
          </a:prstGeom>
          <a:ln w="0">
            <a:noFill/>
          </a:ln>
        </p:spPr>
      </p:pic>
      <p:sp>
        <p:nvSpPr>
          <p:cNvPr id="53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개발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직선 연결선 5"/>
          <p:cNvSpPr/>
          <p:nvPr/>
        </p:nvSpPr>
        <p:spPr>
          <a:xfrm>
            <a:off x="438120" y="819000"/>
            <a:ext cx="40006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893880" y="1569960"/>
            <a:ext cx="40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개발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L 도형 6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 책임자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직선 연결선 5"/>
          <p:cNvSpPr/>
          <p:nvPr/>
        </p:nvSpPr>
        <p:spPr>
          <a:xfrm>
            <a:off x="438120" y="819000"/>
            <a:ext cx="461016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893880" y="1569960"/>
            <a:ext cx="80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교육 책임자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L 도형 6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-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 프로필 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자유양식</a:t>
            </a: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직선 연결선 5"/>
          <p:cNvSpPr/>
          <p:nvPr/>
        </p:nvSpPr>
        <p:spPr>
          <a:xfrm>
            <a:off x="438120" y="819000"/>
            <a:ext cx="37051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893880" y="1569960"/>
            <a:ext cx="74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작성 필수 사항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: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강사 이름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치인증 자격 유무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번호 </a:t>
            </a: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/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인증자격 상태 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(KPC </a:t>
            </a:r>
            <a:r>
              <a:rPr b="1" lang="ko-KR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이상 가능</a:t>
            </a:r>
            <a:r>
              <a:rPr b="1" lang="en-US" sz="1400" spc="-1" strike="noStrike">
                <a:solidFill>
                  <a:srgbClr val="c0504d"/>
                </a:solidFill>
                <a:latin typeface="나눔고딕"/>
                <a:ea typeface="나눔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갈매기형 수장 8"/>
          <p:cNvSpPr/>
          <p:nvPr/>
        </p:nvSpPr>
        <p:spPr>
          <a:xfrm>
            <a:off x="257040" y="1467000"/>
            <a:ext cx="516240" cy="515880"/>
          </a:xfrm>
          <a:custGeom>
            <a:avLst/>
            <a:gdLst>
              <a:gd name="textAreaLeft" fmla="*/ 0 w 516240"/>
              <a:gd name="textAreaRight" fmla="*/ 516600 w 51624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L 도형 6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9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직선 연결선 5"/>
          <p:cNvSpPr/>
          <p:nvPr/>
        </p:nvSpPr>
        <p:spPr>
          <a:xfrm>
            <a:off x="438120" y="819000"/>
            <a:ext cx="2247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0" name="표 9" descr=""/>
          <p:cNvPicPr/>
          <p:nvPr/>
        </p:nvPicPr>
        <p:blipFill>
          <a:blip r:embed="rId1"/>
          <a:stretch/>
        </p:blipFill>
        <p:spPr>
          <a:xfrm>
            <a:off x="615960" y="1311120"/>
            <a:ext cx="7918560" cy="4499280"/>
          </a:xfrm>
          <a:prstGeom prst="rect">
            <a:avLst/>
          </a:prstGeom>
          <a:ln w="0">
            <a:noFill/>
          </a:ln>
        </p:spPr>
      </p:pic>
      <p:sp>
        <p:nvSpPr>
          <p:cNvPr id="131" name="L 도형 6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1027080" y="895320"/>
            <a:ext cx="446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◆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기입 요령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: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수료생 전원 기입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/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다양한 기수 수료생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/ 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교육일 명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바닥글 개체 틀 4" descr=""/>
          <p:cNvPicPr/>
          <p:nvPr/>
        </p:nvPicPr>
        <p:blipFill>
          <a:blip r:embed="rId2"/>
          <a:stretch/>
        </p:blipFill>
        <p:spPr>
          <a:xfrm>
            <a:off x="438120" y="5986440"/>
            <a:ext cx="8388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47680" y="12855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 목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11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가지 핵심역량 중 해당 역량의 적합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8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필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- ①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개발자   ② 교육책임자   ③ 강사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9.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수료생 리스트 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교육일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, </a:t>
            </a:r>
            <a:r>
              <a:rPr b="0" lang="ko-KR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강사</a:t>
            </a:r>
            <a:r>
              <a:rPr b="0" lang="en-US" sz="20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7760" y="398160"/>
            <a:ext cx="55530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목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1/2 액자 6"/>
          <p:cNvSpPr/>
          <p:nvPr/>
        </p:nvSpPr>
        <p:spPr>
          <a:xfrm>
            <a:off x="247680" y="189000"/>
            <a:ext cx="895320" cy="915840"/>
          </a:xfrm>
          <a:custGeom>
            <a:avLst/>
            <a:gdLst/>
            <a:ahLst/>
            <a:rect l="l" t="t" r="r" b="b"/>
            <a:pathLst>
              <a:path w="895350" h="915987">
                <a:moveTo>
                  <a:pt x="0" y="0"/>
                </a:moveTo>
                <a:lnTo>
                  <a:pt x="895350" y="0"/>
                </a:lnTo>
                <a:lnTo>
                  <a:pt x="713882" y="185651"/>
                </a:lnTo>
                <a:lnTo>
                  <a:pt x="164503" y="185651"/>
                </a:lnTo>
                <a:lnTo>
                  <a:pt x="164503" y="747693"/>
                </a:lnTo>
                <a:lnTo>
                  <a:pt x="0" y="915987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1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 도형 3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1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6"/>
          <p:cNvSpPr/>
          <p:nvPr/>
        </p:nvSpPr>
        <p:spPr>
          <a:xfrm>
            <a:off x="257040" y="2487600"/>
            <a:ext cx="516240" cy="515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7"/>
          <p:cNvSpPr/>
          <p:nvPr/>
        </p:nvSpPr>
        <p:spPr>
          <a:xfrm>
            <a:off x="257040" y="3506760"/>
            <a:ext cx="516240" cy="517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선 연결선 5"/>
          <p:cNvSpPr/>
          <p:nvPr/>
        </p:nvSpPr>
        <p:spPr>
          <a:xfrm>
            <a:off x="438120" y="819000"/>
            <a:ext cx="22957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8"/>
          <p:cNvSpPr/>
          <p:nvPr/>
        </p:nvSpPr>
        <p:spPr>
          <a:xfrm>
            <a:off x="257040" y="4527720"/>
            <a:ext cx="516240" cy="5158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직사각형 9"/>
          <p:cNvSpPr/>
          <p:nvPr/>
        </p:nvSpPr>
        <p:spPr>
          <a:xfrm>
            <a:off x="257040" y="5548320"/>
            <a:ext cx="516240" cy="515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893880" y="1569960"/>
            <a:ext cx="381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11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가지 역량 중 다루고 있는 역량의 적합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973080" y="259092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의 이론적 배경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973080" y="361152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코칭 역량의 깊이와 넓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973080" y="463248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창의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973080" y="5651640"/>
            <a:ext cx="35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프로그램 상에서 교육생의 역량 강화 정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2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학습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5"/>
          <p:cNvSpPr/>
          <p:nvPr/>
        </p:nvSpPr>
        <p:spPr>
          <a:xfrm>
            <a:off x="438120" y="819000"/>
            <a:ext cx="16286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L 도형 8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직사각형 9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직사각형 10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직사각형 11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3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운영 프로세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직선 연결선 5"/>
          <p:cNvSpPr/>
          <p:nvPr/>
        </p:nvSpPr>
        <p:spPr>
          <a:xfrm>
            <a:off x="438120" y="819000"/>
            <a:ext cx="35132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 도형 8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4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세부 설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선 연결선 8"/>
          <p:cNvSpPr/>
          <p:nvPr/>
        </p:nvSpPr>
        <p:spPr>
          <a:xfrm>
            <a:off x="438120" y="819000"/>
            <a:ext cx="289548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1880" y="1301760"/>
          <a:ext cx="8220240" cy="4184640"/>
        </p:xfrm>
        <a:graphic>
          <a:graphicData uri="http://schemas.openxmlformats.org/drawingml/2006/table">
            <a:tbl>
              <a:tblPr/>
              <a:tblGrid>
                <a:gridCol w="1176480"/>
                <a:gridCol w="1495440"/>
                <a:gridCol w="2952720"/>
                <a:gridCol w="1866960"/>
                <a:gridCol w="728640"/>
              </a:tblGrid>
              <a:tr h="68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모듈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목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교육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세부진행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3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6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86" name="L 도형 5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5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프로그램 시간 운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8"/>
          <p:cNvSpPr/>
          <p:nvPr/>
        </p:nvSpPr>
        <p:spPr>
          <a:xfrm>
            <a:off x="438120" y="819000"/>
            <a:ext cx="290520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84280" y="1305000"/>
          <a:ext cx="7975440" cy="4722840"/>
        </p:xfrm>
        <a:graphic>
          <a:graphicData uri="http://schemas.openxmlformats.org/drawingml/2006/table">
            <a:tbl>
              <a:tblPr/>
              <a:tblGrid>
                <a:gridCol w="2314440"/>
                <a:gridCol w="998640"/>
                <a:gridCol w="777960"/>
                <a:gridCol w="576000"/>
                <a:gridCol w="1035360"/>
                <a:gridCol w="679320"/>
                <a:gridCol w="780840"/>
                <a:gridCol w="812880"/>
              </a:tblGrid>
              <a:tr h="3380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교육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구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코칭 실습 방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개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일대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그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3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3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총 시간 합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이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활동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코칭 실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: 0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나눔고딕 ExtraBold"/>
                          <a:ea typeface="나눔고딕 ExtraBold"/>
                        </a:rPr>
                        <a:t>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2" name="L 도형 6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바닥글 개체 틀 4"/>
          <p:cNvSpPr/>
          <p:nvPr/>
        </p:nvSpPr>
        <p:spPr>
          <a:xfrm>
            <a:off x="438120" y="5986440"/>
            <a:ext cx="839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없는 게임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토의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발표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진단 등 이론 교육 이외의 활동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*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실습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: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역량 개발과 직접 관련 있는 코칭 스킬</a:t>
            </a:r>
            <a:r>
              <a:rPr b="0" lang="en-US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, </a:t>
            </a:r>
            <a:r>
              <a:rPr b="0" lang="ko-KR" sz="1000" spc="-1" strike="noStrike">
                <a:solidFill>
                  <a:srgbClr val="595959"/>
                </a:solidFill>
                <a:latin typeface="나눔스퀘어라운드 Bold"/>
                <a:ea typeface="나눔스퀘어라운드 Bold"/>
              </a:rPr>
              <a:t>코칭 프로세스 등의 습득을 위한 코칭 실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57280" y="1314360"/>
          <a:ext cx="8029440" cy="4576680"/>
        </p:xfrm>
        <a:graphic>
          <a:graphicData uri="http://schemas.openxmlformats.org/drawingml/2006/table">
            <a:tbl>
              <a:tblPr/>
              <a:tblGrid>
                <a:gridCol w="842760"/>
                <a:gridCol w="628920"/>
                <a:gridCol w="704880"/>
                <a:gridCol w="4844880"/>
                <a:gridCol w="1008000"/>
              </a:tblGrid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11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가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역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해당모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페이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주요 내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나눔고딕 ExtraBold"/>
                          <a:ea typeface="나눔고딕 ExtraBold"/>
                        </a:rPr>
                        <a:t>적용 시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6. 11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가지 핵심역량 중 해당 역량의 적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8"/>
          <p:cNvSpPr/>
          <p:nvPr/>
        </p:nvSpPr>
        <p:spPr>
          <a:xfrm>
            <a:off x="438120" y="819000"/>
            <a:ext cx="553392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L 도형 5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831960" y="8985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◆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11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가지 핵심역량은 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2022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년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12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월</a:t>
            </a:r>
            <a:r>
              <a:rPr b="1" lang="en-US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31</a:t>
            </a:r>
            <a:r>
              <a:rPr b="1" lang="ko-KR" sz="1600" spc="-1" strike="noStrike">
                <a:solidFill>
                  <a:srgbClr val="404040"/>
                </a:solidFill>
                <a:latin typeface="나눔스퀘어라운드 ExtraBold"/>
                <a:ea typeface="나눔스퀘어라운드 ExtraBold"/>
              </a:rPr>
              <a:t>일까지 적용 가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351000" y="2937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7. </a:t>
            </a:r>
            <a:r>
              <a:rPr b="0" lang="ko-KR" sz="2400" spc="-1" strike="noStrike">
                <a:solidFill>
                  <a:srgbClr val="404040"/>
                </a:solidFill>
                <a:latin typeface="나눔고딕 ExtraBold"/>
                <a:ea typeface="나눔고딕 ExtraBold"/>
              </a:rPr>
              <a:t>기타 운영 사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선 연결선 5"/>
          <p:cNvSpPr/>
          <p:nvPr/>
        </p:nvSpPr>
        <p:spPr>
          <a:xfrm>
            <a:off x="438120" y="819000"/>
            <a:ext cx="23144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893880" y="156996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결석에 대한 운영 규칙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L 도형 8"/>
          <p:cNvSpPr/>
          <p:nvPr/>
        </p:nvSpPr>
        <p:spPr>
          <a:xfrm rot="5400000">
            <a:off x="243000" y="165600"/>
            <a:ext cx="733320" cy="725400"/>
          </a:xfrm>
          <a:custGeom>
            <a:avLst/>
            <a:gdLst/>
            <a:ahLst/>
            <a:rect l="l" t="t" r="r" b="b"/>
            <a:pathLst>
              <a:path w="733425" h="725488">
                <a:moveTo>
                  <a:pt x="0" y="0"/>
                </a:moveTo>
                <a:lnTo>
                  <a:pt x="63364" y="0"/>
                </a:lnTo>
                <a:lnTo>
                  <a:pt x="63364" y="652809"/>
                </a:lnTo>
                <a:lnTo>
                  <a:pt x="733425" y="652809"/>
                </a:lnTo>
                <a:lnTo>
                  <a:pt x="733425" y="725488"/>
                </a:lnTo>
                <a:lnTo>
                  <a:pt x="0" y="725488"/>
                </a:lnTo>
                <a:lnTo>
                  <a:pt x="0" y="0"/>
                </a:ln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직사각형 6"/>
          <p:cNvSpPr/>
          <p:nvPr/>
        </p:nvSpPr>
        <p:spPr>
          <a:xfrm>
            <a:off x="257040" y="1467000"/>
            <a:ext cx="516240" cy="5158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7"/>
          <p:cNvSpPr/>
          <p:nvPr/>
        </p:nvSpPr>
        <p:spPr>
          <a:xfrm>
            <a:off x="257040" y="2871720"/>
            <a:ext cx="516240" cy="515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9"/>
          <p:cNvSpPr/>
          <p:nvPr/>
        </p:nvSpPr>
        <p:spPr>
          <a:xfrm>
            <a:off x="257040" y="4276800"/>
            <a:ext cx="516240" cy="515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나눔고딕 ExtraBold"/>
                <a:ea typeface="나눔고딕 ExtraBold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바닥글 개체 틀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인증</a:t>
            </a:r>
            <a:r>
              <a:rPr b="0" lang="en-US" sz="1000" spc="-1" strike="noStrike">
                <a:solidFill>
                  <a:srgbClr val="595959"/>
                </a:solidFill>
                <a:latin typeface="나눔고딕"/>
                <a:ea typeface="나눔고딕"/>
              </a:rPr>
              <a:t>_2_10_v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893880" y="2975040"/>
            <a:ext cx="30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Follow up </a:t>
            </a:r>
            <a:r>
              <a:rPr b="0" lang="ko-KR" sz="1400" spc="-1" strike="noStrike">
                <a:solidFill>
                  <a:srgbClr val="404040"/>
                </a:solidFill>
                <a:latin typeface="나눔고딕"/>
                <a:ea typeface="나눔고딕"/>
              </a:rPr>
              <a:t>과정 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7:14:56Z</dcterms:created>
  <dc:creator>탱구구</dc:creator>
  <dc:description/>
  <dc:language>en-US</dc:language>
  <cp:lastModifiedBy>인증지원팀</cp:lastModifiedBy>
  <cp:lastPrinted>2016-01-08T05:22:56Z</cp:lastPrinted>
  <dcterms:modified xsi:type="dcterms:W3CDTF">2022-08-17T07:26:43Z</dcterms:modified>
  <cp:revision>139</cp:revision>
  <dc:subject/>
  <dc:title>슬라이드 1</dc:title>
</cp:coreProperties>
</file>