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E6E-47D8-4591-9626-DE807F76A4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BED-F2C8-4956-A8C9-D8858563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5F2-39F9-438C-9E60-86325841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6BC-5452-450C-9393-87C2C6F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3F4-A84D-4D83-9FC3-F9FA7BAA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F52-1D9F-42CC-8E88-1ACAA52D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4CB-3D8F-467E-A3CF-559206A2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2C9-9EE7-4644-A171-09A1FF03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DA3-83A1-4317-B81D-A92E9686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527-E175-41DD-A62B-91958B9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D03-0F94-4CAA-97E1-E5263D1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8A4-F8CA-4BDE-B569-94E7ADA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C02-2B2B-433C-96BE-2FC06F0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6A2D-0043-4421-B9D9-6148256DA907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기관명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운영 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5"/>
          <p:cNvSpPr/>
          <p:nvPr/>
        </p:nvSpPr>
        <p:spPr>
          <a:xfrm>
            <a:off x="438120" y="819000"/>
            <a:ext cx="3228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27120" y="1319040"/>
          <a:ext cx="7889760" cy="3538800"/>
        </p:xfrm>
        <a:graphic>
          <a:graphicData uri="http://schemas.openxmlformats.org/drawingml/2006/table">
            <a:tbl>
              <a:tblPr/>
              <a:tblGrid>
                <a:gridCol w="1220760"/>
                <a:gridCol w="1562040"/>
                <a:gridCol w="1266840"/>
                <a:gridCol w="1428840"/>
                <a:gridCol w="2411280"/>
              </a:tblGrid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대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의뢰기업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담당자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수료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교육 참가자 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강사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&amp;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연락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인증보유 유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857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648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0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76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" marR="68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5"/>
          <p:cNvSpPr/>
          <p:nvPr/>
        </p:nvSpPr>
        <p:spPr>
          <a:xfrm>
            <a:off x="438120" y="819000"/>
            <a:ext cx="12193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8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85960" y="157176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팔로우업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885960" y="2976480"/>
            <a:ext cx="38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변동사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7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User</cp:lastModifiedBy>
  <cp:lastPrinted>2016-01-08T05:22:56Z</cp:lastPrinted>
  <dcterms:modified xsi:type="dcterms:W3CDTF">2020-06-04T07:02:31Z</dcterms:modified>
  <cp:revision>129</cp:revision>
  <dc:subject/>
  <dc:title>슬라이드 1</dc:title>
</cp:coreProperties>
</file>