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A60-09A2-4930-9150-289897742D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E35-CC22-4E3E-A672-D13E521855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E4F-8BB8-4C1F-B46B-56739A3676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D1A4-EA50-4033-A7DF-88F5567A43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BE2-5E94-4A5D-8D58-35124A79C1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FE2-7318-4A4A-9A8D-F01743634A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9F97-0954-4531-97BA-6EBB3F9A96C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7C0-9A1C-43B1-ABB5-B717848046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E96-91FE-4A7D-9198-E4376954255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FAA0-D971-44A8-BAE5-0A70E81517E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F78-20FB-4ABD-8081-6208DDE9E90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55B-9953-4942-B4C8-F58B18E177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108-EBDF-45B9-B800-FC474B0B0A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500-1252-4504-8BA0-6961D9B047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49F-016E-4E8E-85C2-9A8A1B3B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C9B-DCFD-4FDD-BA62-78B488D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4A7-C736-4596-80A3-5842AFDD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46B-4152-4C1E-AA32-86215C1B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31A-7FC3-41B1-92DF-B2148F95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849-6942-4EFE-A487-7459E170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B37-9FC3-4502-AF08-73336AD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ABF-F651-4837-BA39-2B3658DA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E3A-8753-47B9-B93D-4FC1D241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A22-2514-48C6-8FF1-C84814E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D29-DF27-48E5-98E5-B8545BB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D95-F143-4B83-ACE4-4374C8F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3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A2C-3468-4B10-9370-AC36968C1A4A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인증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1960" y="156996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6597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73280" y="1569960"/>
            <a:ext cx="80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55818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7732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52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65320" y="895320"/>
            <a:ext cx="44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입 요령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전원 기입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다양한 기수 수료생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  <p:sp>
        <p:nvSpPr>
          <p:cNvPr id="12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선 연결선 10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/2 액자 6"/>
          <p:cNvSpPr/>
          <p:nvPr/>
        </p:nvSpPr>
        <p:spPr>
          <a:xfrm>
            <a:off x="227160" y="158760"/>
            <a:ext cx="895320" cy="915840"/>
          </a:xfrm>
          <a:custGeom>
            <a:avLst/>
            <a:gdLst/>
            <a:ahLst/>
            <a:rect l="l" t="t" r="r" b="b"/>
            <a:pathLst>
              <a:path w="895350" h="915988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4"/>
                </a:lnTo>
                <a:lnTo>
                  <a:pt x="0" y="9159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핵심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선 연결선 9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84280" y="1068480"/>
          <a:ext cx="7975440" cy="4270320"/>
        </p:xfrm>
        <a:graphic>
          <a:graphicData uri="http://schemas.openxmlformats.org/drawingml/2006/table">
            <a:tbl>
              <a:tblPr/>
              <a:tblGrid>
                <a:gridCol w="752400"/>
                <a:gridCol w="1317600"/>
                <a:gridCol w="2779560"/>
                <a:gridCol w="2316240"/>
                <a:gridCol w="809640"/>
              </a:tblGrid>
              <a:tr h="77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071720"/>
          <a:ext cx="7975440" cy="471636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3416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핵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핵심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2803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96320" y="895320"/>
            <a:ext cx="34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2022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일부터 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6:53:41Z</dcterms:modified>
  <cp:revision>158</cp:revision>
  <dc:subject/>
  <dc:title>슬라이드 1</dc:title>
</cp:coreProperties>
</file>