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A52-6BAE-4C2C-97DE-EA8520A74E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399-4B5D-4217-9E37-0E625C96D7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A2DD-6DF6-40C0-9650-B0876EBAAE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F492-E7C4-4D85-A6F0-18A04A5D39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60EE-280C-4CC2-991D-6F38F9BD56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FC8B-EE78-4230-ACE4-2D227CFC5F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50A4-CDAD-44D3-822D-0BA0E0E320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D696-C3F4-4E8C-A8A7-4A9AB4D123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191-4015-4CC2-8A1A-2E11133401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0AB0-2D4C-4BBB-8339-550478D843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3E3E-5D33-4F9A-A0EA-5F3F2150B4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F0F8-06CF-457D-93C1-EEDAD64792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F012-6887-4BD4-9F7A-8FFAB49D6CF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6A33-1660-47ED-9C18-AC970B9740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87E-4C30-4D4C-8872-47414DDC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FDB-C289-49F5-A846-925326CB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1CD-2FFD-4D91-830B-DC33E87B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9E9-10E6-4168-8AE0-5A8BD0F6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F99-2199-42BA-BEAF-96ADDE2B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C56-B636-45C2-8B4D-FD108199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BFB-767B-4746-893E-48BB305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74B-69FD-40FE-A9DB-4F3EBD9D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3F2-F51A-48BA-8401-1627753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7D6-515C-4474-9B8E-2F5254A1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B46-AAF3-49BC-966D-FB9805F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4C7-E260-4113-906B-25A866E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898989"/>
                </a:solidFill>
                <a:latin typeface="굴림"/>
              </a:rPr>
              <a:t>_2_3_v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CB9E-B0B9-43B8-B730-76D88AF81EEE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인증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기초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1960" y="156996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5"/>
          <p:cNvSpPr/>
          <p:nvPr/>
        </p:nvSpPr>
        <p:spPr>
          <a:xfrm>
            <a:off x="438120" y="819000"/>
            <a:ext cx="6597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773280" y="1569960"/>
            <a:ext cx="80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선 연결선 5"/>
          <p:cNvSpPr/>
          <p:nvPr/>
        </p:nvSpPr>
        <p:spPr>
          <a:xfrm>
            <a:off x="438120" y="819000"/>
            <a:ext cx="55818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7732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52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65320" y="895320"/>
            <a:ext cx="44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입 요령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전원 기입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다양한 기수 수료생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  <p:sp>
        <p:nvSpPr>
          <p:cNvPr id="12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직선 연결선 10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/2 액자 6"/>
          <p:cNvSpPr/>
          <p:nvPr/>
        </p:nvSpPr>
        <p:spPr>
          <a:xfrm>
            <a:off x="227160" y="158760"/>
            <a:ext cx="895320" cy="915840"/>
          </a:xfrm>
          <a:custGeom>
            <a:avLst/>
            <a:gdLst/>
            <a:ahLst/>
            <a:rect l="l" t="t" r="r" b="b"/>
            <a:pathLst>
              <a:path w="895350" h="915988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4"/>
                </a:lnTo>
                <a:lnTo>
                  <a:pt x="0" y="9159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6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핵심역량의 적합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선 연결선 9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84280" y="1068480"/>
          <a:ext cx="7975440" cy="4270320"/>
        </p:xfrm>
        <a:graphic>
          <a:graphicData uri="http://schemas.openxmlformats.org/drawingml/2006/table">
            <a:tbl>
              <a:tblPr/>
              <a:tblGrid>
                <a:gridCol w="752400"/>
                <a:gridCol w="1317600"/>
                <a:gridCol w="2779560"/>
                <a:gridCol w="2316240"/>
                <a:gridCol w="809640"/>
              </a:tblGrid>
              <a:tr h="774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4280" y="1071720"/>
          <a:ext cx="7975440" cy="471636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7280" y="1314360"/>
          <a:ext cx="8029440" cy="493416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핵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전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핵심역량의 적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8"/>
          <p:cNvSpPr/>
          <p:nvPr/>
        </p:nvSpPr>
        <p:spPr>
          <a:xfrm>
            <a:off x="438120" y="819000"/>
            <a:ext cx="2803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796320" y="895320"/>
            <a:ext cx="34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2022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년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월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일부터 적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6:53:41Z</dcterms:modified>
  <cp:revision>158</cp:revision>
  <dc:subject/>
  <dc:title>슬라이드 1</dc:title>
</cp:coreProperties>
</file>