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8E3D-CE9C-4BA3-9FB1-D1858D09A8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122-55D6-40E7-87B2-313A55A9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3F6-FCE3-4709-8FDC-D55DF762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2B5-B72A-4DDF-A9AD-11AD702F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68F-7D23-4118-9AEC-B4AE61CE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D74-FAA2-4477-B17A-E7026D93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B59-6C21-4B3C-B47F-C29E454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C68-91DC-467E-A96A-C47D3E40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ADB-08EA-4193-A064-538BF80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338-C52F-4367-BB6F-52F118A1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1C9-7D2D-4321-9227-4ECAED56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EB7-C765-4B03-85ED-804EEB1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8F4-C979-4D7D-8260-1183DF4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5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49D-9829-4584-BAFF-DE8D45F83FF3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역량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831960" y="156996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6659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73280" y="1569960"/>
            <a:ext cx="80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직선 연결선 5"/>
          <p:cNvSpPr/>
          <p:nvPr/>
        </p:nvSpPr>
        <p:spPr>
          <a:xfrm>
            <a:off x="438120" y="819000"/>
            <a:ext cx="56880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7732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선 연결선 5"/>
          <p:cNvSpPr/>
          <p:nvPr/>
        </p:nvSpPr>
        <p:spPr>
          <a:xfrm>
            <a:off x="438120" y="819000"/>
            <a:ext cx="2247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523040"/>
          </a:xfrm>
          <a:prstGeom prst="rect">
            <a:avLst/>
          </a:prstGeom>
          <a:ln w="0">
            <a:noFill/>
          </a:ln>
        </p:spPr>
      </p:pic>
      <p:sp>
        <p:nvSpPr>
          <p:cNvPr id="131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037520" y="895320"/>
            <a:ext cx="44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0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0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0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수료생 전원 기입 </a:t>
            </a:r>
            <a:r>
              <a:rPr b="0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다양한 기수 수료생 </a:t>
            </a:r>
            <a:r>
              <a:rPr b="0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  <p:sp>
        <p:nvSpPr>
          <p:cNvPr id="13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/2 액자 6"/>
          <p:cNvSpPr/>
          <p:nvPr/>
        </p:nvSpPr>
        <p:spPr>
          <a:xfrm>
            <a:off x="247680" y="158760"/>
            <a:ext cx="895320" cy="915840"/>
          </a:xfrm>
          <a:custGeom>
            <a:avLst/>
            <a:gdLst/>
            <a:ahLst/>
            <a:rect l="l" t="t" r="r" b="b"/>
            <a:pathLst>
              <a:path w="895350" h="915988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4"/>
                </a:lnTo>
                <a:lnTo>
                  <a:pt x="0" y="9159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80" y="1285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핵심역량 중 해당 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8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9"/>
          <p:cNvSpPr/>
          <p:nvPr/>
        </p:nvSpPr>
        <p:spPr>
          <a:xfrm>
            <a:off x="257040" y="248760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0"/>
          <p:cNvSpPr/>
          <p:nvPr/>
        </p:nvSpPr>
        <p:spPr>
          <a:xfrm>
            <a:off x="257040" y="3506760"/>
            <a:ext cx="516240" cy="517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1"/>
          <p:cNvSpPr/>
          <p:nvPr/>
        </p:nvSpPr>
        <p:spPr>
          <a:xfrm>
            <a:off x="257040" y="4527720"/>
            <a:ext cx="516240" cy="5158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직사각형 12"/>
          <p:cNvSpPr/>
          <p:nvPr/>
        </p:nvSpPr>
        <p:spPr>
          <a:xfrm>
            <a:off x="257040" y="5548320"/>
            <a:ext cx="516240" cy="515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93880" y="1569960"/>
            <a:ext cx="38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나눔고딕"/>
                <a:ea typeface="나눔고딕"/>
              </a:rPr>
              <a:t>8</a:t>
            </a:r>
            <a:r>
              <a:rPr b="0" lang="ko-KR" sz="1400" spc="-1" strike="noStrike">
                <a:solidFill>
                  <a:srgbClr val="ff0000"/>
                </a:solidFill>
                <a:latin typeface="나눔고딕"/>
                <a:ea typeface="나눔고딕"/>
              </a:rPr>
              <a:t>가지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역량 중 다루고 있는 역량의 적합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973080" y="259092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의 이론적 배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973080" y="361152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칭 역량의 깊이와 넓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973080" y="463248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창의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973080" y="5651640"/>
            <a:ext cx="35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상에서 교육생의 역량 강화 정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12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직사각형 13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954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057320"/>
          <a:ext cx="7975440" cy="4184640"/>
        </p:xfrm>
        <a:graphic>
          <a:graphicData uri="http://schemas.openxmlformats.org/drawingml/2006/table">
            <a:tbl>
              <a:tblPr/>
              <a:tblGrid>
                <a:gridCol w="772920"/>
                <a:gridCol w="1339920"/>
                <a:gridCol w="2779920"/>
                <a:gridCol w="2290680"/>
                <a:gridCol w="79200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86" name="L 도형 5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8"/>
          <p:cNvSpPr/>
          <p:nvPr/>
        </p:nvSpPr>
        <p:spPr>
          <a:xfrm>
            <a:off x="438120" y="819000"/>
            <a:ext cx="29052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4280" y="1052640"/>
          <a:ext cx="7975440" cy="473868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092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구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1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57280" y="1314360"/>
          <a:ext cx="8029440" cy="457668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핵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3"/>
          <p:cNvSpPr/>
          <p:nvPr/>
        </p:nvSpPr>
        <p:spPr>
          <a:xfrm>
            <a:off x="351000" y="29376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핵심역량 중 해당 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8"/>
          <p:cNvSpPr/>
          <p:nvPr/>
        </p:nvSpPr>
        <p:spPr>
          <a:xfrm>
            <a:off x="438120" y="819000"/>
            <a:ext cx="45306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 도형 5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796320" y="895320"/>
            <a:ext cx="34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2022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일부터 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사각형 1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12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13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7:02:18Z</dcterms:modified>
  <cp:revision>147</cp:revision>
  <dc:subject/>
  <dc:title>슬라이드 1</dc:title>
</cp:coreProperties>
</file>